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24EB-A2FA-4737-AA7E-E9167D860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BB17-CB9D-4819-8CD6-772C47CCFE6F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5C7-76F6-4EC2-8448-5DAC4BF4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F70-784E-4509-A562-46C995FA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5DA-ADDE-4891-BA69-0E0DA2A6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E21-6FE1-436D-9982-DD2622E0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D08D-A291-4958-AE6D-211B6CB5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DF3A-3FC8-4CCA-BAAC-D642C481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3824-9929-48CF-B06E-48C70FC1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B947-C476-48A1-9880-5BE242A9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F504-BD4D-409C-AB06-B53675A2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B629-D69B-40BB-AFEB-4CC40BD4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C9CA-25C7-4394-B0FF-1EAA2EFF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197-AB0B-45DA-9229-C3B042C4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3ADB-17CE-4C4D-9C8B-848F650D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6E33-60AC-475D-A5C5-01AD5B85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9C17-2A07-4E3E-BA63-52F160F3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F235-9107-45EC-A8A7-2F785A9D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E421-860D-4D0D-94AF-3A5D2089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BF6-A912-429C-A832-61A41804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C34-6341-4D9A-AE0C-C2392358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74F-C909-44EF-88F9-19C75F4B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1FC-884A-4C8B-854E-2B2F711C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8F9-3A2B-44DC-8078-F55F1D6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A2C-06C6-4F20-B0A9-417B9B2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678-7157-40B9-9CF3-199C6981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5622-C00C-42AC-9E88-491D9E4894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7C76-BB03-4EAF-AC3B-4B990F82B27F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Thursday, September 17th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omplement of an angle adds up to 90</a:t>
            </a:r>
            <a:r>
              <a:rPr b="0" lang="en-US" sz="4400" spc="-1" strike="noStrike">
                <a:solidFill>
                  <a:srgbClr val="eadc78"/>
                </a:solidFill>
                <a:latin typeface="Arial"/>
                <a:ea typeface="Arial"/>
              </a:rPr>
              <a:t>° or </a:t>
            </a:r>
            <a:r>
              <a:rPr b="0" lang="en-US" sz="4400" spc="-1" strike="noStrike" baseline="30000">
                <a:solidFill>
                  <a:srgbClr val="eadc78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eadc78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eadc78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af9e6"/>
                </a:solidFill>
                <a:latin typeface="Arial"/>
              </a:rPr>
              <a:t>Supplement of an angle adds up to 180</a:t>
            </a:r>
            <a:r>
              <a:rPr b="0" lang="en-US" sz="4500" spc="-1" strike="noStrike">
                <a:solidFill>
                  <a:srgbClr val="faf9e6"/>
                </a:solidFill>
                <a:latin typeface="Arial"/>
                <a:ea typeface="Arial"/>
              </a:rPr>
              <a:t>° or </a:t>
            </a:r>
            <a:r>
              <a:rPr b="0" lang="en-US" sz="4500" spc="-1" strike="noStrike">
                <a:solidFill>
                  <a:srgbClr val="faf9e6"/>
                </a:solidFill>
                <a:latin typeface="Symbol"/>
                <a:ea typeface="Symbol"/>
              </a:rPr>
              <a:t></a:t>
            </a:r>
            <a:endParaRPr b="0" lang="en-US" sz="45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Find the complement and supplement: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Angle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Complement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Supplement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38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89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112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faf9e6"/>
                          </a:solidFill>
                          <a:latin typeface="Symbol"/>
                          <a:ea typeface="Symbol"/>
                        </a:rPr>
                        <a:t>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faf9e6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faf9e6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faf9e6"/>
                          </a:solidFill>
                          <a:latin typeface="Symbol"/>
                          <a:ea typeface="Symbol"/>
                        </a:rPr>
                        <a:t>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faf9e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Ink 33"/>
          <p:cNvSpPr/>
          <p:nvPr/>
        </p:nvSpPr>
        <p:spPr>
          <a:xfrm>
            <a:off x="3821040" y="2482920"/>
            <a:ext cx="644760" cy="347760"/>
          </a:xfrm>
          <a:custGeom>
            <a:avLst/>
            <a:gdLst/>
            <a:ahLst/>
            <a:rect l="l" t="t" r="r" b="b"/>
            <a:pathLst>
              <a:path w="1787" h="968">
                <a:moveTo>
                  <a:pt x="10641" y="6945"/>
                </a:moveTo>
                <a:cubicBezTo>
                  <a:pt x="10753" y="6945"/>
                  <a:pt x="10856" y="6933"/>
                  <a:pt x="10964" y="6921"/>
                </a:cubicBezTo>
                <a:cubicBezTo>
                  <a:pt x="11020" y="6915"/>
                  <a:pt x="11081" y="6921"/>
                  <a:pt x="11137" y="6921"/>
                </a:cubicBezTo>
              </a:path>
              <a:path w="1787" h="968">
                <a:moveTo>
                  <a:pt x="10765" y="6896"/>
                </a:moveTo>
                <a:cubicBezTo>
                  <a:pt x="10696" y="6965"/>
                  <a:pt x="10694" y="6984"/>
                  <a:pt x="10666" y="7069"/>
                </a:cubicBezTo>
                <a:cubicBezTo>
                  <a:pt x="10642" y="7140"/>
                  <a:pt x="10666" y="7228"/>
                  <a:pt x="10641" y="7293"/>
                </a:cubicBezTo>
                <a:cubicBezTo>
                  <a:pt x="10616" y="7317"/>
                  <a:pt x="10608" y="7325"/>
                  <a:pt x="10641" y="7342"/>
                </a:cubicBezTo>
                <a:cubicBezTo>
                  <a:pt x="10677" y="7306"/>
                  <a:pt x="10742" y="7289"/>
                  <a:pt x="10765" y="7268"/>
                </a:cubicBezTo>
                <a:cubicBezTo>
                  <a:pt x="10835" y="7204"/>
                  <a:pt x="10834" y="7193"/>
                  <a:pt x="10939" y="7193"/>
                </a:cubicBezTo>
                <a:cubicBezTo>
                  <a:pt x="11035" y="7193"/>
                  <a:pt x="11039" y="7251"/>
                  <a:pt x="11112" y="7293"/>
                </a:cubicBezTo>
                <a:cubicBezTo>
                  <a:pt x="11202" y="7345"/>
                  <a:pt x="11202" y="7436"/>
                  <a:pt x="11212" y="7541"/>
                </a:cubicBezTo>
                <a:cubicBezTo>
                  <a:pt x="11220" y="7628"/>
                  <a:pt x="11180" y="7734"/>
                  <a:pt x="11112" y="7789"/>
                </a:cubicBezTo>
                <a:cubicBezTo>
                  <a:pt x="11058" y="7833"/>
                  <a:pt x="10955" y="7859"/>
                  <a:pt x="10889" y="7863"/>
                </a:cubicBezTo>
                <a:cubicBezTo>
                  <a:pt x="10853" y="7865"/>
                  <a:pt x="10760" y="7868"/>
                  <a:pt x="10740" y="7838"/>
                </a:cubicBezTo>
                <a:cubicBezTo>
                  <a:pt x="10740" y="7830"/>
                  <a:pt x="10740" y="7821"/>
                  <a:pt x="10740" y="7813"/>
                </a:cubicBezTo>
              </a:path>
              <a:path w="1787" h="968">
                <a:moveTo>
                  <a:pt x="11410" y="7069"/>
                </a:moveTo>
                <a:cubicBezTo>
                  <a:pt x="11521" y="7011"/>
                  <a:pt x="11624" y="6933"/>
                  <a:pt x="11757" y="6970"/>
                </a:cubicBezTo>
                <a:cubicBezTo>
                  <a:pt x="11820" y="6988"/>
                  <a:pt x="11818" y="7100"/>
                  <a:pt x="11807" y="7144"/>
                </a:cubicBezTo>
                <a:cubicBezTo>
                  <a:pt x="11792" y="7206"/>
                  <a:pt x="11758" y="7285"/>
                  <a:pt x="11733" y="7342"/>
                </a:cubicBezTo>
                <a:cubicBezTo>
                  <a:pt x="11695" y="7427"/>
                  <a:pt x="11628" y="7486"/>
                  <a:pt x="11584" y="7565"/>
                </a:cubicBezTo>
                <a:cubicBezTo>
                  <a:pt x="11547" y="7632"/>
                  <a:pt x="11501" y="7677"/>
                  <a:pt x="11460" y="7739"/>
                </a:cubicBezTo>
                <a:cubicBezTo>
                  <a:pt x="11423" y="7795"/>
                  <a:pt x="11415" y="7814"/>
                  <a:pt x="11435" y="7863"/>
                </a:cubicBezTo>
                <a:cubicBezTo>
                  <a:pt x="11461" y="7837"/>
                  <a:pt x="11517" y="7760"/>
                  <a:pt x="11559" y="7764"/>
                </a:cubicBezTo>
                <a:cubicBezTo>
                  <a:pt x="11603" y="7768"/>
                  <a:pt x="11681" y="7805"/>
                  <a:pt x="11733" y="7813"/>
                </a:cubicBezTo>
                <a:cubicBezTo>
                  <a:pt x="11800" y="7824"/>
                  <a:pt x="11901" y="7842"/>
                  <a:pt x="11956" y="7813"/>
                </a:cubicBezTo>
                <a:cubicBezTo>
                  <a:pt x="11981" y="7789"/>
                  <a:pt x="11989" y="7781"/>
                  <a:pt x="12005" y="7764"/>
                </a:cubicBezTo>
              </a:path>
              <a:path w="1787" h="968">
                <a:moveTo>
                  <a:pt x="12204" y="7045"/>
                </a:moveTo>
                <a:cubicBezTo>
                  <a:pt x="12204" y="7028"/>
                  <a:pt x="12204" y="7012"/>
                  <a:pt x="12204" y="6995"/>
                </a:cubicBezTo>
                <a:cubicBezTo>
                  <a:pt x="12232" y="7064"/>
                  <a:pt x="12155" y="7073"/>
                  <a:pt x="12179" y="7144"/>
                </a:cubicBezTo>
                <a:cubicBezTo>
                  <a:pt x="12202" y="7212"/>
                  <a:pt x="12283" y="7196"/>
                  <a:pt x="12328" y="7169"/>
                </a:cubicBezTo>
                <a:cubicBezTo>
                  <a:pt x="12376" y="7140"/>
                  <a:pt x="12428" y="7066"/>
                  <a:pt x="12378" y="7020"/>
                </a:cubicBezTo>
                <a:cubicBezTo>
                  <a:pt x="12330" y="6976"/>
                  <a:pt x="12238" y="6995"/>
                  <a:pt x="12179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9" name="Ink 34"/>
          <p:cNvSpPr/>
          <p:nvPr/>
        </p:nvSpPr>
        <p:spPr>
          <a:xfrm>
            <a:off x="6634080" y="2536920"/>
            <a:ext cx="652680" cy="428400"/>
          </a:xfrm>
          <a:custGeom>
            <a:avLst/>
            <a:gdLst/>
            <a:ahLst/>
            <a:rect l="l" t="t" r="r" b="b"/>
            <a:pathLst>
              <a:path w="1812" h="1191">
                <a:moveTo>
                  <a:pt x="18455" y="7144"/>
                </a:moveTo>
                <a:cubicBezTo>
                  <a:pt x="18480" y="7247"/>
                  <a:pt x="18479" y="7334"/>
                  <a:pt x="18479" y="7441"/>
                </a:cubicBezTo>
                <a:cubicBezTo>
                  <a:pt x="18479" y="7579"/>
                  <a:pt x="18455" y="7702"/>
                  <a:pt x="18455" y="7838"/>
                </a:cubicBezTo>
                <a:cubicBezTo>
                  <a:pt x="18455" y="7913"/>
                  <a:pt x="18442" y="7968"/>
                  <a:pt x="18430" y="8037"/>
                </a:cubicBezTo>
                <a:cubicBezTo>
                  <a:pt x="18430" y="8078"/>
                  <a:pt x="18430" y="8102"/>
                  <a:pt x="18430" y="8062"/>
                </a:cubicBezTo>
              </a:path>
              <a:path w="1812" h="1191">
                <a:moveTo>
                  <a:pt x="18827" y="7342"/>
                </a:moveTo>
                <a:cubicBezTo>
                  <a:pt x="18849" y="7385"/>
                  <a:pt x="18829" y="7431"/>
                  <a:pt x="18802" y="7491"/>
                </a:cubicBezTo>
                <a:cubicBezTo>
                  <a:pt x="18786" y="7528"/>
                  <a:pt x="18722" y="7634"/>
                  <a:pt x="18728" y="7665"/>
                </a:cubicBezTo>
                <a:cubicBezTo>
                  <a:pt x="18741" y="7733"/>
                  <a:pt x="18858" y="7737"/>
                  <a:pt x="18901" y="7739"/>
                </a:cubicBezTo>
                <a:cubicBezTo>
                  <a:pt x="19010" y="7744"/>
                  <a:pt x="19124" y="7752"/>
                  <a:pt x="19224" y="7714"/>
                </a:cubicBezTo>
              </a:path>
              <a:path w="1812" h="1191">
                <a:moveTo>
                  <a:pt x="19174" y="7094"/>
                </a:moveTo>
                <a:cubicBezTo>
                  <a:pt x="19154" y="7192"/>
                  <a:pt x="19127" y="7293"/>
                  <a:pt x="19124" y="7392"/>
                </a:cubicBezTo>
                <a:cubicBezTo>
                  <a:pt x="19119" y="7533"/>
                  <a:pt x="19100" y="7668"/>
                  <a:pt x="19100" y="7813"/>
                </a:cubicBezTo>
                <a:cubicBezTo>
                  <a:pt x="19100" y="7954"/>
                  <a:pt x="19100" y="8094"/>
                  <a:pt x="19100" y="8235"/>
                </a:cubicBezTo>
              </a:path>
              <a:path w="1812" h="1191">
                <a:moveTo>
                  <a:pt x="19348" y="7417"/>
                </a:moveTo>
                <a:cubicBezTo>
                  <a:pt x="19391" y="7307"/>
                  <a:pt x="19405" y="7331"/>
                  <a:pt x="19496" y="7268"/>
                </a:cubicBezTo>
                <a:cubicBezTo>
                  <a:pt x="19561" y="7222"/>
                  <a:pt x="19629" y="7245"/>
                  <a:pt x="19695" y="7293"/>
                </a:cubicBezTo>
                <a:cubicBezTo>
                  <a:pt x="19746" y="7330"/>
                  <a:pt x="19743" y="7461"/>
                  <a:pt x="19745" y="7516"/>
                </a:cubicBezTo>
                <a:cubicBezTo>
                  <a:pt x="19749" y="7637"/>
                  <a:pt x="19711" y="7721"/>
                  <a:pt x="19695" y="7838"/>
                </a:cubicBezTo>
                <a:cubicBezTo>
                  <a:pt x="19682" y="7935"/>
                  <a:pt x="19627" y="8044"/>
                  <a:pt x="19571" y="8136"/>
                </a:cubicBezTo>
                <a:cubicBezTo>
                  <a:pt x="19546" y="8161"/>
                  <a:pt x="19538" y="8169"/>
                  <a:pt x="19521" y="8186"/>
                </a:cubicBezTo>
                <a:cubicBezTo>
                  <a:pt x="19461" y="8142"/>
                  <a:pt x="19416" y="8108"/>
                  <a:pt x="19472" y="8037"/>
                </a:cubicBezTo>
                <a:cubicBezTo>
                  <a:pt x="19531" y="7962"/>
                  <a:pt x="19548" y="8048"/>
                  <a:pt x="19596" y="8062"/>
                </a:cubicBezTo>
                <a:cubicBezTo>
                  <a:pt x="19685" y="8088"/>
                  <a:pt x="19773" y="8086"/>
                  <a:pt x="19869" y="8086"/>
                </a:cubicBezTo>
                <a:cubicBezTo>
                  <a:pt x="19913" y="8086"/>
                  <a:pt x="19926" y="8089"/>
                  <a:pt x="19943" y="8062"/>
                </a:cubicBezTo>
              </a:path>
              <a:path w="1812" h="1191">
                <a:moveTo>
                  <a:pt x="20067" y="7119"/>
                </a:moveTo>
                <a:cubicBezTo>
                  <a:pt x="20052" y="7170"/>
                  <a:pt x="20051" y="7239"/>
                  <a:pt x="20141" y="7218"/>
                </a:cubicBezTo>
                <a:cubicBezTo>
                  <a:pt x="20190" y="7206"/>
                  <a:pt x="20260" y="7151"/>
                  <a:pt x="20241" y="7094"/>
                </a:cubicBezTo>
                <a:cubicBezTo>
                  <a:pt x="20224" y="7042"/>
                  <a:pt x="20109" y="7030"/>
                  <a:pt x="20067" y="7045"/>
                </a:cubicBezTo>
                <a:cubicBezTo>
                  <a:pt x="20033" y="7077"/>
                  <a:pt x="20017" y="7094"/>
                  <a:pt x="19993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0" name="Ink 35"/>
          <p:cNvSpPr/>
          <p:nvPr/>
        </p:nvSpPr>
        <p:spPr>
          <a:xfrm>
            <a:off x="6796080" y="3313080"/>
            <a:ext cx="463680" cy="438120"/>
          </a:xfrm>
          <a:custGeom>
            <a:avLst/>
            <a:gdLst/>
            <a:ahLst/>
            <a:rect l="l" t="t" r="r" b="b"/>
            <a:pathLst>
              <a:path w="1291" h="1216">
                <a:moveTo>
                  <a:pt x="19348" y="9426"/>
                </a:moveTo>
                <a:cubicBezTo>
                  <a:pt x="19340" y="9338"/>
                  <a:pt x="19328" y="9256"/>
                  <a:pt x="19224" y="9227"/>
                </a:cubicBezTo>
                <a:cubicBezTo>
                  <a:pt x="19179" y="9214"/>
                  <a:pt x="19062" y="9237"/>
                  <a:pt x="19025" y="9252"/>
                </a:cubicBezTo>
                <a:cubicBezTo>
                  <a:pt x="18975" y="9272"/>
                  <a:pt x="18892" y="9405"/>
                  <a:pt x="18876" y="9451"/>
                </a:cubicBezTo>
                <a:cubicBezTo>
                  <a:pt x="18847" y="9537"/>
                  <a:pt x="18911" y="9586"/>
                  <a:pt x="18951" y="9649"/>
                </a:cubicBezTo>
                <a:cubicBezTo>
                  <a:pt x="18998" y="9724"/>
                  <a:pt x="19026" y="9743"/>
                  <a:pt x="19124" y="9723"/>
                </a:cubicBezTo>
                <a:cubicBezTo>
                  <a:pt x="19201" y="9708"/>
                  <a:pt x="19311" y="9649"/>
                  <a:pt x="19348" y="9575"/>
                </a:cubicBezTo>
                <a:cubicBezTo>
                  <a:pt x="19363" y="9546"/>
                  <a:pt x="19348" y="9460"/>
                  <a:pt x="19348" y="9426"/>
                </a:cubicBezTo>
                <a:cubicBezTo>
                  <a:pt x="19317" y="9507"/>
                  <a:pt x="19301" y="9586"/>
                  <a:pt x="19298" y="9674"/>
                </a:cubicBezTo>
                <a:cubicBezTo>
                  <a:pt x="19294" y="9778"/>
                  <a:pt x="19284" y="9871"/>
                  <a:pt x="19273" y="9971"/>
                </a:cubicBezTo>
                <a:cubicBezTo>
                  <a:pt x="19263" y="10062"/>
                  <a:pt x="19258" y="10155"/>
                  <a:pt x="19248" y="10244"/>
                </a:cubicBezTo>
                <a:cubicBezTo>
                  <a:pt x="19240" y="10316"/>
                  <a:pt x="19246" y="10342"/>
                  <a:pt x="19298" y="10368"/>
                </a:cubicBezTo>
              </a:path>
              <a:path w="1291" h="1216">
                <a:moveTo>
                  <a:pt x="19695" y="9327"/>
                </a:moveTo>
                <a:cubicBezTo>
                  <a:pt x="19695" y="9418"/>
                  <a:pt x="19687" y="9511"/>
                  <a:pt x="19670" y="9599"/>
                </a:cubicBezTo>
                <a:cubicBezTo>
                  <a:pt x="19646" y="9722"/>
                  <a:pt x="19645" y="9851"/>
                  <a:pt x="19621" y="9971"/>
                </a:cubicBezTo>
                <a:cubicBezTo>
                  <a:pt x="19599" y="10080"/>
                  <a:pt x="19609" y="10137"/>
                  <a:pt x="19621" y="10244"/>
                </a:cubicBezTo>
                <a:cubicBezTo>
                  <a:pt x="19629" y="10317"/>
                  <a:pt x="19619" y="10410"/>
                  <a:pt x="19670" y="10393"/>
                </a:cubicBezTo>
              </a:path>
              <a:path w="1291" h="1216">
                <a:moveTo>
                  <a:pt x="20042" y="9203"/>
                </a:moveTo>
                <a:cubicBezTo>
                  <a:pt x="20016" y="9275"/>
                  <a:pt x="19978" y="9332"/>
                  <a:pt x="19968" y="9401"/>
                </a:cubicBezTo>
                <a:cubicBezTo>
                  <a:pt x="20023" y="9435"/>
                  <a:pt x="20079" y="9439"/>
                  <a:pt x="20141" y="9401"/>
                </a:cubicBezTo>
                <a:cubicBezTo>
                  <a:pt x="20210" y="9358"/>
                  <a:pt x="20160" y="9279"/>
                  <a:pt x="20117" y="9252"/>
                </a:cubicBezTo>
                <a:cubicBezTo>
                  <a:pt x="20071" y="9223"/>
                  <a:pt x="20044" y="9227"/>
                  <a:pt x="19993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1" name="Ink 36"/>
          <p:cNvSpPr/>
          <p:nvPr/>
        </p:nvSpPr>
        <p:spPr>
          <a:xfrm>
            <a:off x="4160880" y="3205080"/>
            <a:ext cx="268200" cy="482760"/>
          </a:xfrm>
          <a:custGeom>
            <a:avLst/>
            <a:gdLst/>
            <a:ahLst/>
            <a:rect l="l" t="t" r="r" b="b"/>
            <a:pathLst>
              <a:path w="745" h="1340">
                <a:moveTo>
                  <a:pt x="11609" y="8954"/>
                </a:moveTo>
                <a:cubicBezTo>
                  <a:pt x="11619" y="9024"/>
                  <a:pt x="11644" y="9073"/>
                  <a:pt x="11633" y="9153"/>
                </a:cubicBezTo>
                <a:cubicBezTo>
                  <a:pt x="11616" y="9278"/>
                  <a:pt x="11599" y="9401"/>
                  <a:pt x="11584" y="9525"/>
                </a:cubicBezTo>
                <a:cubicBezTo>
                  <a:pt x="11571" y="9630"/>
                  <a:pt x="11563" y="9742"/>
                  <a:pt x="11559" y="9847"/>
                </a:cubicBezTo>
                <a:cubicBezTo>
                  <a:pt x="11554" y="9979"/>
                  <a:pt x="11559" y="10112"/>
                  <a:pt x="11559" y="10244"/>
                </a:cubicBezTo>
              </a:path>
              <a:path w="745" h="1340">
                <a:moveTo>
                  <a:pt x="12105" y="8954"/>
                </a:moveTo>
                <a:cubicBezTo>
                  <a:pt x="12077" y="9016"/>
                  <a:pt x="11982" y="9136"/>
                  <a:pt x="12005" y="9203"/>
                </a:cubicBezTo>
                <a:cubicBezTo>
                  <a:pt x="12018" y="9241"/>
                  <a:pt x="12091" y="9290"/>
                  <a:pt x="12129" y="9277"/>
                </a:cubicBezTo>
                <a:cubicBezTo>
                  <a:pt x="12188" y="9257"/>
                  <a:pt x="12289" y="9203"/>
                  <a:pt x="12303" y="9128"/>
                </a:cubicBezTo>
                <a:cubicBezTo>
                  <a:pt x="12322" y="9025"/>
                  <a:pt x="12256" y="8976"/>
                  <a:pt x="12179" y="8930"/>
                </a:cubicBezTo>
                <a:cubicBezTo>
                  <a:pt x="12139" y="8910"/>
                  <a:pt x="12132" y="8901"/>
                  <a:pt x="12105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2" name="Ink 37"/>
          <p:cNvSpPr/>
          <p:nvPr/>
        </p:nvSpPr>
        <p:spPr>
          <a:xfrm>
            <a:off x="3813120" y="4705200"/>
            <a:ext cx="581040" cy="617760"/>
          </a:xfrm>
          <a:custGeom>
            <a:avLst/>
            <a:gdLst/>
            <a:ahLst/>
            <a:rect l="l" t="t" r="r" b="b"/>
            <a:pathLst>
              <a:path w="1613" h="1713">
                <a:moveTo>
                  <a:pt x="10592" y="13122"/>
                </a:moveTo>
                <a:cubicBezTo>
                  <a:pt x="10706" y="13122"/>
                  <a:pt x="10834" y="13142"/>
                  <a:pt x="10939" y="13097"/>
                </a:cubicBezTo>
                <a:cubicBezTo>
                  <a:pt x="10955" y="13089"/>
                  <a:pt x="10972" y="13080"/>
                  <a:pt x="10988" y="13072"/>
                </a:cubicBezTo>
              </a:path>
              <a:path w="1613" h="1713">
                <a:moveTo>
                  <a:pt x="10616" y="13196"/>
                </a:moveTo>
                <a:cubicBezTo>
                  <a:pt x="10598" y="13290"/>
                  <a:pt x="10569" y="13309"/>
                  <a:pt x="10616" y="13345"/>
                </a:cubicBezTo>
                <a:cubicBezTo>
                  <a:pt x="10697" y="13345"/>
                  <a:pt x="10774" y="13334"/>
                  <a:pt x="10840" y="13370"/>
                </a:cubicBezTo>
                <a:cubicBezTo>
                  <a:pt x="10895" y="13400"/>
                  <a:pt x="10968" y="13500"/>
                  <a:pt x="10964" y="13568"/>
                </a:cubicBezTo>
                <a:cubicBezTo>
                  <a:pt x="10962" y="13602"/>
                  <a:pt x="10933" y="13704"/>
                  <a:pt x="10889" y="13717"/>
                </a:cubicBezTo>
                <a:cubicBezTo>
                  <a:pt x="10818" y="13737"/>
                  <a:pt x="10724" y="13704"/>
                  <a:pt x="10666" y="13667"/>
                </a:cubicBezTo>
                <a:cubicBezTo>
                  <a:pt x="10637" y="13639"/>
                  <a:pt x="10629" y="13626"/>
                  <a:pt x="10641" y="13593"/>
                </a:cubicBezTo>
              </a:path>
              <a:path w="1613" h="1713">
                <a:moveTo>
                  <a:pt x="11137" y="13171"/>
                </a:moveTo>
                <a:cubicBezTo>
                  <a:pt x="11284" y="13171"/>
                  <a:pt x="11359" y="13167"/>
                  <a:pt x="11485" y="13146"/>
                </a:cubicBezTo>
                <a:cubicBezTo>
                  <a:pt x="11501" y="13146"/>
                  <a:pt x="11518" y="13146"/>
                  <a:pt x="11534" y="13146"/>
                </a:cubicBezTo>
              </a:path>
              <a:path w="1613" h="1713">
                <a:moveTo>
                  <a:pt x="11336" y="13246"/>
                </a:moveTo>
                <a:cubicBezTo>
                  <a:pt x="11316" y="13321"/>
                  <a:pt x="11240" y="13496"/>
                  <a:pt x="11261" y="13593"/>
                </a:cubicBezTo>
                <a:cubicBezTo>
                  <a:pt x="11284" y="13660"/>
                  <a:pt x="11289" y="13678"/>
                  <a:pt x="11311" y="13717"/>
                </a:cubicBezTo>
              </a:path>
              <a:path w="1613" h="1713">
                <a:moveTo>
                  <a:pt x="11460" y="13196"/>
                </a:moveTo>
                <a:cubicBezTo>
                  <a:pt x="11460" y="13359"/>
                  <a:pt x="11477" y="13414"/>
                  <a:pt x="11534" y="13568"/>
                </a:cubicBezTo>
                <a:cubicBezTo>
                  <a:pt x="11567" y="13658"/>
                  <a:pt x="11568" y="13700"/>
                  <a:pt x="11633" y="13767"/>
                </a:cubicBezTo>
              </a:path>
              <a:path w="1613" h="1713">
                <a:moveTo>
                  <a:pt x="10815" y="13891"/>
                </a:moveTo>
                <a:cubicBezTo>
                  <a:pt x="10952" y="13914"/>
                  <a:pt x="11072" y="13915"/>
                  <a:pt x="11212" y="13915"/>
                </a:cubicBezTo>
                <a:cubicBezTo>
                  <a:pt x="11402" y="13915"/>
                  <a:pt x="11592" y="13915"/>
                  <a:pt x="11782" y="13915"/>
                </a:cubicBezTo>
              </a:path>
              <a:path w="1613" h="1713">
                <a:moveTo>
                  <a:pt x="11187" y="14163"/>
                </a:moveTo>
                <a:cubicBezTo>
                  <a:pt x="11168" y="14314"/>
                  <a:pt x="11175" y="14381"/>
                  <a:pt x="11187" y="14511"/>
                </a:cubicBezTo>
                <a:cubicBezTo>
                  <a:pt x="11196" y="14612"/>
                  <a:pt x="11187" y="14675"/>
                  <a:pt x="11212" y="14759"/>
                </a:cubicBezTo>
                <a:cubicBezTo>
                  <a:pt x="11212" y="14767"/>
                  <a:pt x="11212" y="14776"/>
                  <a:pt x="11212" y="14784"/>
                </a:cubicBezTo>
              </a:path>
              <a:path w="1613" h="1713">
                <a:moveTo>
                  <a:pt x="11361" y="14288"/>
                </a:moveTo>
                <a:cubicBezTo>
                  <a:pt x="11406" y="14253"/>
                  <a:pt x="11490" y="14192"/>
                  <a:pt x="11559" y="14213"/>
                </a:cubicBezTo>
                <a:cubicBezTo>
                  <a:pt x="11614" y="14230"/>
                  <a:pt x="11670" y="14305"/>
                  <a:pt x="11683" y="14362"/>
                </a:cubicBezTo>
                <a:cubicBezTo>
                  <a:pt x="11700" y="14438"/>
                  <a:pt x="11665" y="14495"/>
                  <a:pt x="11633" y="14560"/>
                </a:cubicBezTo>
                <a:cubicBezTo>
                  <a:pt x="11607" y="14612"/>
                  <a:pt x="11590" y="14662"/>
                  <a:pt x="11559" y="14709"/>
                </a:cubicBezTo>
                <a:cubicBezTo>
                  <a:pt x="11500" y="14701"/>
                  <a:pt x="11452" y="14682"/>
                  <a:pt x="11435" y="14610"/>
                </a:cubicBezTo>
                <a:cubicBezTo>
                  <a:pt x="11426" y="14572"/>
                  <a:pt x="11468" y="14498"/>
                  <a:pt x="11509" y="14486"/>
                </a:cubicBezTo>
                <a:cubicBezTo>
                  <a:pt x="11549" y="14474"/>
                  <a:pt x="11699" y="14515"/>
                  <a:pt x="11733" y="14536"/>
                </a:cubicBezTo>
                <a:cubicBezTo>
                  <a:pt x="11817" y="14588"/>
                  <a:pt x="11848" y="14634"/>
                  <a:pt x="11956" y="14660"/>
                </a:cubicBezTo>
                <a:cubicBezTo>
                  <a:pt x="12046" y="14682"/>
                  <a:pt x="12115" y="14684"/>
                  <a:pt x="12204" y="146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3" name="Ink 38"/>
          <p:cNvSpPr/>
          <p:nvPr/>
        </p:nvSpPr>
        <p:spPr>
          <a:xfrm>
            <a:off x="3884760" y="3929040"/>
            <a:ext cx="1258920" cy="544680"/>
          </a:xfrm>
          <a:custGeom>
            <a:avLst/>
            <a:gdLst/>
            <a:ahLst/>
            <a:rect l="l" t="t" r="r" b="b"/>
            <a:pathLst>
              <a:path w="3499" h="1514">
                <a:moveTo>
                  <a:pt x="10815" y="11485"/>
                </a:moveTo>
                <a:cubicBezTo>
                  <a:pt x="10815" y="11586"/>
                  <a:pt x="10784" y="11712"/>
                  <a:pt x="10790" y="11807"/>
                </a:cubicBezTo>
                <a:cubicBezTo>
                  <a:pt x="10798" y="11929"/>
                  <a:pt x="10815" y="12052"/>
                  <a:pt x="10815" y="12179"/>
                </a:cubicBezTo>
                <a:cubicBezTo>
                  <a:pt x="10815" y="12262"/>
                  <a:pt x="10815" y="12344"/>
                  <a:pt x="10815" y="12427"/>
                </a:cubicBezTo>
                <a:cubicBezTo>
                  <a:pt x="10815" y="12281"/>
                  <a:pt x="10826" y="12148"/>
                  <a:pt x="10840" y="12005"/>
                </a:cubicBezTo>
                <a:cubicBezTo>
                  <a:pt x="10852" y="11890"/>
                  <a:pt x="10853" y="11772"/>
                  <a:pt x="10864" y="11658"/>
                </a:cubicBezTo>
                <a:cubicBezTo>
                  <a:pt x="10875" y="11549"/>
                  <a:pt x="10909" y="11446"/>
                  <a:pt x="10914" y="11336"/>
                </a:cubicBezTo>
                <a:cubicBezTo>
                  <a:pt x="10914" y="11286"/>
                  <a:pt x="10914" y="11270"/>
                  <a:pt x="10914" y="11237"/>
                </a:cubicBezTo>
                <a:cubicBezTo>
                  <a:pt x="10923" y="11310"/>
                  <a:pt x="10946" y="11388"/>
                  <a:pt x="10964" y="11460"/>
                </a:cubicBezTo>
                <a:cubicBezTo>
                  <a:pt x="10998" y="11598"/>
                  <a:pt x="11069" y="11715"/>
                  <a:pt x="11137" y="11832"/>
                </a:cubicBezTo>
                <a:cubicBezTo>
                  <a:pt x="11199" y="11940"/>
                  <a:pt x="11229" y="12034"/>
                  <a:pt x="11311" y="12129"/>
                </a:cubicBezTo>
                <a:cubicBezTo>
                  <a:pt x="11369" y="12196"/>
                  <a:pt x="11374" y="12174"/>
                  <a:pt x="11385" y="12254"/>
                </a:cubicBezTo>
                <a:cubicBezTo>
                  <a:pt x="11404" y="12149"/>
                  <a:pt x="11373" y="12044"/>
                  <a:pt x="11385" y="11931"/>
                </a:cubicBezTo>
                <a:cubicBezTo>
                  <a:pt x="11401" y="11782"/>
                  <a:pt x="11420" y="11633"/>
                  <a:pt x="11435" y="11485"/>
                </a:cubicBezTo>
                <a:cubicBezTo>
                  <a:pt x="11449" y="11345"/>
                  <a:pt x="11459" y="11145"/>
                  <a:pt x="11410" y="11013"/>
                </a:cubicBezTo>
                <a:cubicBezTo>
                  <a:pt x="11396" y="10974"/>
                  <a:pt x="11392" y="10961"/>
                  <a:pt x="11385" y="10914"/>
                </a:cubicBezTo>
              </a:path>
              <a:path w="3499" h="1514">
                <a:moveTo>
                  <a:pt x="11881" y="11485"/>
                </a:moveTo>
                <a:cubicBezTo>
                  <a:pt x="11898" y="11637"/>
                  <a:pt x="11912" y="11741"/>
                  <a:pt x="11881" y="11881"/>
                </a:cubicBezTo>
                <a:cubicBezTo>
                  <a:pt x="11864" y="11957"/>
                  <a:pt x="11837" y="12049"/>
                  <a:pt x="11857" y="12129"/>
                </a:cubicBezTo>
                <a:cubicBezTo>
                  <a:pt x="11870" y="12179"/>
                  <a:pt x="11937" y="12256"/>
                  <a:pt x="11981" y="12278"/>
                </a:cubicBezTo>
                <a:cubicBezTo>
                  <a:pt x="12069" y="12322"/>
                  <a:pt x="12107" y="12304"/>
                  <a:pt x="12179" y="12254"/>
                </a:cubicBezTo>
                <a:cubicBezTo>
                  <a:pt x="12260" y="12198"/>
                  <a:pt x="12299" y="12155"/>
                  <a:pt x="12303" y="12055"/>
                </a:cubicBezTo>
                <a:cubicBezTo>
                  <a:pt x="12308" y="11943"/>
                  <a:pt x="12249" y="11897"/>
                  <a:pt x="12204" y="11807"/>
                </a:cubicBezTo>
                <a:cubicBezTo>
                  <a:pt x="12157" y="11714"/>
                  <a:pt x="12124" y="11661"/>
                  <a:pt x="12030" y="11609"/>
                </a:cubicBezTo>
                <a:cubicBezTo>
                  <a:pt x="11969" y="11575"/>
                  <a:pt x="11921" y="11543"/>
                  <a:pt x="11857" y="11534"/>
                </a:cubicBezTo>
              </a:path>
              <a:path w="3499" h="1514">
                <a:moveTo>
                  <a:pt x="12402" y="11906"/>
                </a:moveTo>
                <a:cubicBezTo>
                  <a:pt x="12457" y="12087"/>
                  <a:pt x="12482" y="12100"/>
                  <a:pt x="12477" y="12204"/>
                </a:cubicBezTo>
                <a:cubicBezTo>
                  <a:pt x="12516" y="12126"/>
                  <a:pt x="12502" y="12025"/>
                  <a:pt x="12502" y="11931"/>
                </a:cubicBezTo>
                <a:cubicBezTo>
                  <a:pt x="12502" y="11836"/>
                  <a:pt x="12529" y="11716"/>
                  <a:pt x="12576" y="11633"/>
                </a:cubicBezTo>
                <a:cubicBezTo>
                  <a:pt x="12600" y="11592"/>
                  <a:pt x="12651" y="11522"/>
                  <a:pt x="12700" y="11509"/>
                </a:cubicBezTo>
                <a:cubicBezTo>
                  <a:pt x="12785" y="11486"/>
                  <a:pt x="12805" y="11561"/>
                  <a:pt x="12849" y="11609"/>
                </a:cubicBezTo>
                <a:cubicBezTo>
                  <a:pt x="12916" y="11682"/>
                  <a:pt x="12896" y="11814"/>
                  <a:pt x="12923" y="11906"/>
                </a:cubicBezTo>
                <a:cubicBezTo>
                  <a:pt x="12944" y="11977"/>
                  <a:pt x="12961" y="12062"/>
                  <a:pt x="12998" y="12129"/>
                </a:cubicBezTo>
                <a:cubicBezTo>
                  <a:pt x="13019" y="12166"/>
                  <a:pt x="13061" y="12195"/>
                  <a:pt x="13097" y="12204"/>
                </a:cubicBezTo>
              </a:path>
              <a:path w="3499" h="1514">
                <a:moveTo>
                  <a:pt x="13171" y="12080"/>
                </a:moveTo>
                <a:cubicBezTo>
                  <a:pt x="13297" y="11996"/>
                  <a:pt x="13436" y="11930"/>
                  <a:pt x="13568" y="11857"/>
                </a:cubicBezTo>
                <a:cubicBezTo>
                  <a:pt x="13661" y="11805"/>
                  <a:pt x="13667" y="11762"/>
                  <a:pt x="13667" y="11658"/>
                </a:cubicBezTo>
                <a:cubicBezTo>
                  <a:pt x="13667" y="11557"/>
                  <a:pt x="13593" y="11504"/>
                  <a:pt x="13494" y="11485"/>
                </a:cubicBezTo>
                <a:cubicBezTo>
                  <a:pt x="13397" y="11466"/>
                  <a:pt x="13343" y="11504"/>
                  <a:pt x="13271" y="11559"/>
                </a:cubicBezTo>
                <a:cubicBezTo>
                  <a:pt x="13236" y="11586"/>
                  <a:pt x="13155" y="11667"/>
                  <a:pt x="13146" y="11708"/>
                </a:cubicBezTo>
                <a:cubicBezTo>
                  <a:pt x="13126" y="11793"/>
                  <a:pt x="13153" y="11906"/>
                  <a:pt x="13196" y="11981"/>
                </a:cubicBezTo>
                <a:cubicBezTo>
                  <a:pt x="13240" y="12059"/>
                  <a:pt x="13298" y="12128"/>
                  <a:pt x="13370" y="12179"/>
                </a:cubicBezTo>
                <a:cubicBezTo>
                  <a:pt x="13455" y="12240"/>
                  <a:pt x="13549" y="12281"/>
                  <a:pt x="13643" y="12328"/>
                </a:cubicBezTo>
                <a:cubicBezTo>
                  <a:pt x="13730" y="12372"/>
                  <a:pt x="13845" y="12393"/>
                  <a:pt x="13940" y="12402"/>
                </a:cubicBezTo>
                <a:cubicBezTo>
                  <a:pt x="14035" y="12411"/>
                  <a:pt x="14121" y="12423"/>
                  <a:pt x="14213" y="12427"/>
                </a:cubicBezTo>
                <a:cubicBezTo>
                  <a:pt x="14250" y="12429"/>
                  <a:pt x="14243" y="12433"/>
                  <a:pt x="14263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4" name="Ink 39"/>
          <p:cNvSpPr/>
          <p:nvPr/>
        </p:nvSpPr>
        <p:spPr>
          <a:xfrm>
            <a:off x="6939000" y="3946680"/>
            <a:ext cx="650880" cy="563400"/>
          </a:xfrm>
          <a:custGeom>
            <a:avLst/>
            <a:gdLst/>
            <a:ahLst/>
            <a:rect l="l" t="t" r="r" b="b"/>
            <a:pathLst>
              <a:path w="1812" h="1563">
                <a:moveTo>
                  <a:pt x="19521" y="11237"/>
                </a:moveTo>
                <a:cubicBezTo>
                  <a:pt x="19514" y="11330"/>
                  <a:pt x="19510" y="11423"/>
                  <a:pt x="19472" y="11509"/>
                </a:cubicBezTo>
                <a:cubicBezTo>
                  <a:pt x="19424" y="11617"/>
                  <a:pt x="19388" y="11722"/>
                  <a:pt x="19348" y="11832"/>
                </a:cubicBezTo>
                <a:cubicBezTo>
                  <a:pt x="19318" y="11917"/>
                  <a:pt x="19267" y="12063"/>
                  <a:pt x="19273" y="12154"/>
                </a:cubicBezTo>
                <a:cubicBezTo>
                  <a:pt x="19277" y="12215"/>
                  <a:pt x="19341" y="12347"/>
                  <a:pt x="19397" y="12378"/>
                </a:cubicBezTo>
                <a:cubicBezTo>
                  <a:pt x="19460" y="12413"/>
                  <a:pt x="19589" y="12475"/>
                  <a:pt x="19670" y="12452"/>
                </a:cubicBezTo>
                <a:cubicBezTo>
                  <a:pt x="19735" y="12434"/>
                  <a:pt x="19803" y="12381"/>
                  <a:pt x="19844" y="12328"/>
                </a:cubicBezTo>
                <a:cubicBezTo>
                  <a:pt x="19895" y="12261"/>
                  <a:pt x="19938" y="12212"/>
                  <a:pt x="19943" y="12129"/>
                </a:cubicBezTo>
                <a:cubicBezTo>
                  <a:pt x="19945" y="12085"/>
                  <a:pt x="19910" y="11982"/>
                  <a:pt x="19869" y="11956"/>
                </a:cubicBezTo>
                <a:cubicBezTo>
                  <a:pt x="19773" y="11896"/>
                  <a:pt x="19761" y="11963"/>
                  <a:pt x="19695" y="12005"/>
                </a:cubicBezTo>
                <a:cubicBezTo>
                  <a:pt x="19633" y="12045"/>
                  <a:pt x="19592" y="12123"/>
                  <a:pt x="19596" y="12204"/>
                </a:cubicBezTo>
                <a:cubicBezTo>
                  <a:pt x="19603" y="12340"/>
                  <a:pt x="19602" y="12336"/>
                  <a:pt x="19670" y="12402"/>
                </a:cubicBezTo>
              </a:path>
              <a:path w="1812" h="1563">
                <a:moveTo>
                  <a:pt x="20613" y="11633"/>
                </a:moveTo>
                <a:cubicBezTo>
                  <a:pt x="20604" y="11471"/>
                  <a:pt x="20627" y="11499"/>
                  <a:pt x="20538" y="11410"/>
                </a:cubicBezTo>
                <a:cubicBezTo>
                  <a:pt x="20480" y="11352"/>
                  <a:pt x="20367" y="11348"/>
                  <a:pt x="20290" y="11361"/>
                </a:cubicBezTo>
                <a:cubicBezTo>
                  <a:pt x="20252" y="11367"/>
                  <a:pt x="20128" y="11406"/>
                  <a:pt x="20117" y="11460"/>
                </a:cubicBezTo>
                <a:cubicBezTo>
                  <a:pt x="20105" y="11516"/>
                  <a:pt x="20114" y="11662"/>
                  <a:pt x="20141" y="11708"/>
                </a:cubicBezTo>
                <a:cubicBezTo>
                  <a:pt x="20189" y="11791"/>
                  <a:pt x="20279" y="11880"/>
                  <a:pt x="20340" y="11956"/>
                </a:cubicBezTo>
                <a:cubicBezTo>
                  <a:pt x="20442" y="12082"/>
                  <a:pt x="20511" y="12178"/>
                  <a:pt x="20563" y="12328"/>
                </a:cubicBezTo>
                <a:cubicBezTo>
                  <a:pt x="20580" y="12377"/>
                  <a:pt x="20599" y="12512"/>
                  <a:pt x="20513" y="12526"/>
                </a:cubicBezTo>
                <a:cubicBezTo>
                  <a:pt x="20436" y="12539"/>
                  <a:pt x="20359" y="12520"/>
                  <a:pt x="20315" y="12452"/>
                </a:cubicBezTo>
                <a:cubicBezTo>
                  <a:pt x="20277" y="12393"/>
                  <a:pt x="20229" y="12330"/>
                  <a:pt x="20241" y="12254"/>
                </a:cubicBezTo>
                <a:cubicBezTo>
                  <a:pt x="20257" y="12155"/>
                  <a:pt x="20308" y="11988"/>
                  <a:pt x="20365" y="11906"/>
                </a:cubicBezTo>
                <a:cubicBezTo>
                  <a:pt x="20432" y="11808"/>
                  <a:pt x="20495" y="11773"/>
                  <a:pt x="20538" y="11658"/>
                </a:cubicBezTo>
                <a:cubicBezTo>
                  <a:pt x="20563" y="11584"/>
                  <a:pt x="20572" y="11559"/>
                  <a:pt x="20588" y="11509"/>
                </a:cubicBezTo>
              </a:path>
              <a:path w="1812" h="1563">
                <a:moveTo>
                  <a:pt x="20836" y="11187"/>
                </a:moveTo>
                <a:cubicBezTo>
                  <a:pt x="20806" y="11240"/>
                  <a:pt x="20748" y="11294"/>
                  <a:pt x="20762" y="11361"/>
                </a:cubicBezTo>
                <a:cubicBezTo>
                  <a:pt x="20777" y="11428"/>
                  <a:pt x="20827" y="11457"/>
                  <a:pt x="20886" y="11460"/>
                </a:cubicBezTo>
                <a:cubicBezTo>
                  <a:pt x="20957" y="11463"/>
                  <a:pt x="21017" y="11475"/>
                  <a:pt x="21059" y="11410"/>
                </a:cubicBezTo>
                <a:cubicBezTo>
                  <a:pt x="21120" y="11315"/>
                  <a:pt x="21061" y="11276"/>
                  <a:pt x="21010" y="11212"/>
                </a:cubicBezTo>
                <a:cubicBezTo>
                  <a:pt x="20949" y="11137"/>
                  <a:pt x="20914" y="11113"/>
                  <a:pt x="20836" y="11063"/>
                </a:cubicBezTo>
                <a:cubicBezTo>
                  <a:pt x="20756" y="11009"/>
                  <a:pt x="20725" y="10989"/>
                  <a:pt x="20662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5" name="Ink 40"/>
          <p:cNvSpPr/>
          <p:nvPr/>
        </p:nvSpPr>
        <p:spPr>
          <a:xfrm>
            <a:off x="3419640" y="5411880"/>
            <a:ext cx="536400" cy="669960"/>
          </a:xfrm>
          <a:custGeom>
            <a:avLst/>
            <a:gdLst/>
            <a:ahLst/>
            <a:rect l="l" t="t" r="r" b="b"/>
            <a:pathLst>
              <a:path w="1489" h="1861">
                <a:moveTo>
                  <a:pt x="9500" y="15528"/>
                </a:moveTo>
                <a:cubicBezTo>
                  <a:pt x="9500" y="15572"/>
                  <a:pt x="9497" y="15592"/>
                  <a:pt x="9525" y="15553"/>
                </a:cubicBezTo>
              </a:path>
              <a:path w="1489" h="1861">
                <a:moveTo>
                  <a:pt x="9897" y="15106"/>
                </a:moveTo>
                <a:cubicBezTo>
                  <a:pt x="10011" y="15043"/>
                  <a:pt x="10003" y="15074"/>
                  <a:pt x="10120" y="15081"/>
                </a:cubicBezTo>
                <a:cubicBezTo>
                  <a:pt x="10137" y="15081"/>
                  <a:pt x="10153" y="15081"/>
                  <a:pt x="10170" y="15081"/>
                </a:cubicBezTo>
              </a:path>
              <a:path w="1489" h="1861">
                <a:moveTo>
                  <a:pt x="9996" y="15056"/>
                </a:moveTo>
                <a:cubicBezTo>
                  <a:pt x="9951" y="15088"/>
                  <a:pt x="9839" y="15141"/>
                  <a:pt x="9922" y="15205"/>
                </a:cubicBezTo>
                <a:cubicBezTo>
                  <a:pt x="9976" y="15247"/>
                  <a:pt x="10037" y="15236"/>
                  <a:pt x="10096" y="15280"/>
                </a:cubicBezTo>
                <a:cubicBezTo>
                  <a:pt x="10139" y="15312"/>
                  <a:pt x="10209" y="15371"/>
                  <a:pt x="10195" y="15429"/>
                </a:cubicBezTo>
                <a:cubicBezTo>
                  <a:pt x="10183" y="15479"/>
                  <a:pt x="10131" y="15518"/>
                  <a:pt x="10096" y="15553"/>
                </a:cubicBezTo>
                <a:cubicBezTo>
                  <a:pt x="10060" y="15589"/>
                  <a:pt x="9989" y="15619"/>
                  <a:pt x="9947" y="15627"/>
                </a:cubicBezTo>
                <a:cubicBezTo>
                  <a:pt x="9887" y="15639"/>
                  <a:pt x="9859" y="15600"/>
                  <a:pt x="9847" y="15553"/>
                </a:cubicBezTo>
              </a:path>
              <a:path w="1489" h="1861">
                <a:moveTo>
                  <a:pt x="10542" y="15180"/>
                </a:moveTo>
                <a:cubicBezTo>
                  <a:pt x="10639" y="15119"/>
                  <a:pt x="10668" y="15133"/>
                  <a:pt x="10765" y="15106"/>
                </a:cubicBezTo>
                <a:cubicBezTo>
                  <a:pt x="10840" y="15085"/>
                  <a:pt x="10921" y="15070"/>
                  <a:pt x="10988" y="15032"/>
                </a:cubicBezTo>
              </a:path>
              <a:path w="1489" h="1861">
                <a:moveTo>
                  <a:pt x="10815" y="15180"/>
                </a:moveTo>
                <a:cubicBezTo>
                  <a:pt x="10782" y="15245"/>
                  <a:pt x="10729" y="15338"/>
                  <a:pt x="10716" y="15404"/>
                </a:cubicBezTo>
                <a:cubicBezTo>
                  <a:pt x="10705" y="15459"/>
                  <a:pt x="10710" y="15532"/>
                  <a:pt x="10740" y="15553"/>
                </a:cubicBezTo>
              </a:path>
              <a:path w="1489" h="1861">
                <a:moveTo>
                  <a:pt x="10914" y="15255"/>
                </a:moveTo>
                <a:cubicBezTo>
                  <a:pt x="10914" y="15371"/>
                  <a:pt x="10914" y="15486"/>
                  <a:pt x="10914" y="15602"/>
                </a:cubicBezTo>
              </a:path>
              <a:path w="1489" h="1861">
                <a:moveTo>
                  <a:pt x="10790" y="15900"/>
                </a:moveTo>
                <a:cubicBezTo>
                  <a:pt x="10666" y="15866"/>
                  <a:pt x="10661" y="15902"/>
                  <a:pt x="10542" y="15925"/>
                </a:cubicBezTo>
                <a:cubicBezTo>
                  <a:pt x="10470" y="15939"/>
                  <a:pt x="10410" y="15959"/>
                  <a:pt x="10344" y="15999"/>
                </a:cubicBezTo>
                <a:cubicBezTo>
                  <a:pt x="10254" y="16054"/>
                  <a:pt x="10162" y="16075"/>
                  <a:pt x="10071" y="16123"/>
                </a:cubicBezTo>
                <a:cubicBezTo>
                  <a:pt x="10029" y="16145"/>
                  <a:pt x="9929" y="16188"/>
                  <a:pt x="9897" y="16222"/>
                </a:cubicBezTo>
                <a:cubicBezTo>
                  <a:pt x="9889" y="16239"/>
                  <a:pt x="9880" y="16255"/>
                  <a:pt x="9872" y="16272"/>
                </a:cubicBezTo>
              </a:path>
              <a:path w="1489" h="1861">
                <a:moveTo>
                  <a:pt x="9971" y="16272"/>
                </a:moveTo>
                <a:cubicBezTo>
                  <a:pt x="10053" y="16256"/>
                  <a:pt x="10149" y="16236"/>
                  <a:pt x="10220" y="16222"/>
                </a:cubicBezTo>
                <a:cubicBezTo>
                  <a:pt x="10300" y="16206"/>
                  <a:pt x="10359" y="16217"/>
                  <a:pt x="10368" y="16297"/>
                </a:cubicBezTo>
                <a:cubicBezTo>
                  <a:pt x="10379" y="16393"/>
                  <a:pt x="10362" y="16502"/>
                  <a:pt x="10344" y="16594"/>
                </a:cubicBezTo>
                <a:cubicBezTo>
                  <a:pt x="10324" y="16696"/>
                  <a:pt x="10316" y="16792"/>
                  <a:pt x="10294" y="16892"/>
                </a:cubicBezTo>
              </a:path>
              <a:path w="1489" h="1861">
                <a:moveTo>
                  <a:pt x="9525" y="15156"/>
                </a:moveTo>
                <a:cubicBezTo>
                  <a:pt x="9629" y="15167"/>
                  <a:pt x="9669" y="15193"/>
                  <a:pt x="9748" y="15255"/>
                </a:cubicBezTo>
                <a:cubicBezTo>
                  <a:pt x="9880" y="15359"/>
                  <a:pt x="9957" y="15483"/>
                  <a:pt x="10046" y="15627"/>
                </a:cubicBezTo>
                <a:cubicBezTo>
                  <a:pt x="10182" y="15849"/>
                  <a:pt x="10340" y="16083"/>
                  <a:pt x="10443" y="16321"/>
                </a:cubicBezTo>
                <a:cubicBezTo>
                  <a:pt x="10517" y="16491"/>
                  <a:pt x="10561" y="16672"/>
                  <a:pt x="10641" y="16842"/>
                </a:cubicBezTo>
              </a:path>
              <a:path w="1489" h="1861">
                <a:moveTo>
                  <a:pt x="10815" y="15329"/>
                </a:moveTo>
                <a:cubicBezTo>
                  <a:pt x="10769" y="15420"/>
                  <a:pt x="10711" y="15488"/>
                  <a:pt x="10666" y="15577"/>
                </a:cubicBezTo>
                <a:cubicBezTo>
                  <a:pt x="10598" y="15713"/>
                  <a:pt x="10497" y="15863"/>
                  <a:pt x="10443" y="15999"/>
                </a:cubicBezTo>
                <a:cubicBezTo>
                  <a:pt x="10345" y="16247"/>
                  <a:pt x="10236" y="16498"/>
                  <a:pt x="10120" y="16743"/>
                </a:cubicBezTo>
                <a:cubicBezTo>
                  <a:pt x="10095" y="16793"/>
                  <a:pt x="10071" y="16842"/>
                  <a:pt x="10046" y="168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6" name="Ink 41"/>
          <p:cNvSpPr/>
          <p:nvPr/>
        </p:nvSpPr>
        <p:spPr>
          <a:xfrm>
            <a:off x="4402080" y="5456160"/>
            <a:ext cx="339840" cy="598680"/>
          </a:xfrm>
          <a:custGeom>
            <a:avLst/>
            <a:gdLst/>
            <a:ahLst/>
            <a:rect l="l" t="t" r="r" b="b"/>
            <a:pathLst>
              <a:path w="943" h="1663">
                <a:moveTo>
                  <a:pt x="12229" y="15280"/>
                </a:moveTo>
                <a:cubicBezTo>
                  <a:pt x="12316" y="15245"/>
                  <a:pt x="12355" y="15230"/>
                  <a:pt x="12452" y="15230"/>
                </a:cubicBezTo>
                <a:cubicBezTo>
                  <a:pt x="12534" y="15230"/>
                  <a:pt x="12597" y="15214"/>
                  <a:pt x="12675" y="15205"/>
                </a:cubicBezTo>
                <a:cubicBezTo>
                  <a:pt x="12700" y="15205"/>
                  <a:pt x="12725" y="15205"/>
                  <a:pt x="12750" y="15205"/>
                </a:cubicBezTo>
              </a:path>
              <a:path w="943" h="1663">
                <a:moveTo>
                  <a:pt x="12601" y="15379"/>
                </a:moveTo>
                <a:cubicBezTo>
                  <a:pt x="12577" y="15446"/>
                  <a:pt x="12500" y="15571"/>
                  <a:pt x="12601" y="15627"/>
                </a:cubicBezTo>
                <a:cubicBezTo>
                  <a:pt x="12609" y="15627"/>
                  <a:pt x="12618" y="15627"/>
                  <a:pt x="12626" y="15627"/>
                </a:cubicBezTo>
              </a:path>
              <a:path w="943" h="1663">
                <a:moveTo>
                  <a:pt x="12675" y="15156"/>
                </a:moveTo>
                <a:cubicBezTo>
                  <a:pt x="12675" y="15317"/>
                  <a:pt x="12677" y="15473"/>
                  <a:pt x="12700" y="15627"/>
                </a:cubicBezTo>
                <a:cubicBezTo>
                  <a:pt x="12700" y="15679"/>
                  <a:pt x="12701" y="15697"/>
                  <a:pt x="12725" y="15726"/>
                </a:cubicBezTo>
              </a:path>
              <a:path w="943" h="1663">
                <a:moveTo>
                  <a:pt x="13122" y="15329"/>
                </a:moveTo>
                <a:cubicBezTo>
                  <a:pt x="13043" y="15414"/>
                  <a:pt x="12953" y="15499"/>
                  <a:pt x="12898" y="15602"/>
                </a:cubicBezTo>
                <a:cubicBezTo>
                  <a:pt x="12838" y="15714"/>
                  <a:pt x="12770" y="15818"/>
                  <a:pt x="12700" y="15925"/>
                </a:cubicBezTo>
                <a:cubicBezTo>
                  <a:pt x="12614" y="16059"/>
                  <a:pt x="12532" y="16184"/>
                  <a:pt x="12452" y="16321"/>
                </a:cubicBezTo>
                <a:cubicBezTo>
                  <a:pt x="12411" y="16392"/>
                  <a:pt x="12347" y="16487"/>
                  <a:pt x="12328" y="16570"/>
                </a:cubicBezTo>
                <a:cubicBezTo>
                  <a:pt x="12328" y="16586"/>
                  <a:pt x="12328" y="16603"/>
                  <a:pt x="12328" y="16619"/>
                </a:cubicBezTo>
              </a:path>
              <a:path w="943" h="1663">
                <a:moveTo>
                  <a:pt x="12799" y="15949"/>
                </a:moveTo>
                <a:cubicBezTo>
                  <a:pt x="12775" y="16038"/>
                  <a:pt x="12774" y="16104"/>
                  <a:pt x="12774" y="16197"/>
                </a:cubicBezTo>
                <a:cubicBezTo>
                  <a:pt x="12774" y="16299"/>
                  <a:pt x="12750" y="16391"/>
                  <a:pt x="12750" y="16495"/>
                </a:cubicBezTo>
                <a:cubicBezTo>
                  <a:pt x="12750" y="16561"/>
                  <a:pt x="12750" y="16628"/>
                  <a:pt x="12750" y="16694"/>
                </a:cubicBezTo>
              </a:path>
              <a:path w="943" h="1663">
                <a:moveTo>
                  <a:pt x="12948" y="16123"/>
                </a:moveTo>
                <a:cubicBezTo>
                  <a:pt x="12915" y="16221"/>
                  <a:pt x="12933" y="16275"/>
                  <a:pt x="12948" y="16371"/>
                </a:cubicBezTo>
                <a:cubicBezTo>
                  <a:pt x="12959" y="16442"/>
                  <a:pt x="12971" y="16468"/>
                  <a:pt x="13022" y="16520"/>
                </a:cubicBezTo>
                <a:cubicBezTo>
                  <a:pt x="13030" y="16528"/>
                  <a:pt x="13039" y="16537"/>
                  <a:pt x="13047" y="16545"/>
                </a:cubicBezTo>
              </a:path>
              <a:path w="943" h="1663">
                <a:moveTo>
                  <a:pt x="13171" y="16049"/>
                </a:moveTo>
                <a:cubicBezTo>
                  <a:pt x="13132" y="16185"/>
                  <a:pt x="13100" y="16305"/>
                  <a:pt x="13097" y="16446"/>
                </a:cubicBezTo>
                <a:cubicBezTo>
                  <a:pt x="13094" y="16572"/>
                  <a:pt x="13078" y="16692"/>
                  <a:pt x="13072" y="168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7" name="Ink 42"/>
          <p:cNvSpPr/>
          <p:nvPr/>
        </p:nvSpPr>
        <p:spPr>
          <a:xfrm>
            <a:off x="1428840" y="4705200"/>
            <a:ext cx="27000" cy="206640"/>
          </a:xfrm>
          <a:custGeom>
            <a:avLst/>
            <a:gdLst/>
            <a:ahLst/>
            <a:rect l="l" t="t" r="r" b="b"/>
            <a:pathLst>
              <a:path w="75" h="572">
                <a:moveTo>
                  <a:pt x="3969" y="13271"/>
                </a:moveTo>
                <a:cubicBezTo>
                  <a:pt x="3969" y="13347"/>
                  <a:pt x="3968" y="13399"/>
                  <a:pt x="3994" y="13469"/>
                </a:cubicBezTo>
                <a:cubicBezTo>
                  <a:pt x="3994" y="13377"/>
                  <a:pt x="3982" y="13309"/>
                  <a:pt x="3969" y="13221"/>
                </a:cubicBezTo>
                <a:cubicBezTo>
                  <a:pt x="3962" y="13174"/>
                  <a:pt x="3969" y="13119"/>
                  <a:pt x="3969" y="13072"/>
                </a:cubicBezTo>
                <a:cubicBezTo>
                  <a:pt x="3969" y="13178"/>
                  <a:pt x="4001" y="13242"/>
                  <a:pt x="4018" y="13345"/>
                </a:cubicBezTo>
                <a:cubicBezTo>
                  <a:pt x="4029" y="13414"/>
                  <a:pt x="4043" y="13470"/>
                  <a:pt x="4043" y="13543"/>
                </a:cubicBezTo>
                <a:cubicBezTo>
                  <a:pt x="4043" y="13593"/>
                  <a:pt x="4043" y="13610"/>
                  <a:pt x="4043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8" name="Ink 43"/>
          <p:cNvSpPr/>
          <p:nvPr/>
        </p:nvSpPr>
        <p:spPr>
          <a:xfrm>
            <a:off x="2116080" y="486720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5879" y="13519"/>
                </a:moveTo>
                <a:cubicBezTo>
                  <a:pt x="5945" y="13519"/>
                  <a:pt x="6011" y="13519"/>
                  <a:pt x="6077" y="13519"/>
                </a:cubicBezTo>
              </a:path>
              <a:path w="348" h="199">
                <a:moveTo>
                  <a:pt x="5978" y="13717"/>
                </a:moveTo>
                <a:cubicBezTo>
                  <a:pt x="6061" y="13717"/>
                  <a:pt x="6143" y="13717"/>
                  <a:pt x="6226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9" name="Ink 44"/>
          <p:cNvSpPr/>
          <p:nvPr/>
        </p:nvSpPr>
        <p:spPr>
          <a:xfrm>
            <a:off x="2347920" y="4741920"/>
            <a:ext cx="339840" cy="339840"/>
          </a:xfrm>
          <a:custGeom>
            <a:avLst/>
            <a:gdLst/>
            <a:ahLst/>
            <a:rect l="l" t="t" r="r" b="b"/>
            <a:pathLst>
              <a:path w="943" h="944">
                <a:moveTo>
                  <a:pt x="6548" y="13246"/>
                </a:moveTo>
                <a:cubicBezTo>
                  <a:pt x="6589" y="13327"/>
                  <a:pt x="6562" y="13362"/>
                  <a:pt x="6548" y="13444"/>
                </a:cubicBezTo>
                <a:cubicBezTo>
                  <a:pt x="6537" y="13508"/>
                  <a:pt x="6527" y="13579"/>
                  <a:pt x="6524" y="13643"/>
                </a:cubicBezTo>
                <a:cubicBezTo>
                  <a:pt x="6519" y="13760"/>
                  <a:pt x="6506" y="13904"/>
                  <a:pt x="6548" y="14015"/>
                </a:cubicBezTo>
                <a:cubicBezTo>
                  <a:pt x="6556" y="14031"/>
                  <a:pt x="6565" y="14048"/>
                  <a:pt x="6573" y="14064"/>
                </a:cubicBezTo>
              </a:path>
              <a:path w="943" h="944">
                <a:moveTo>
                  <a:pt x="6796" y="13320"/>
                </a:moveTo>
                <a:cubicBezTo>
                  <a:pt x="6872" y="13275"/>
                  <a:pt x="6909" y="13308"/>
                  <a:pt x="6995" y="13320"/>
                </a:cubicBezTo>
                <a:cubicBezTo>
                  <a:pt x="7012" y="13320"/>
                  <a:pt x="7028" y="13320"/>
                  <a:pt x="7045" y="13320"/>
                </a:cubicBezTo>
              </a:path>
              <a:path w="943" h="944">
                <a:moveTo>
                  <a:pt x="6796" y="13345"/>
                </a:moveTo>
                <a:cubicBezTo>
                  <a:pt x="6788" y="13368"/>
                  <a:pt x="6743" y="13500"/>
                  <a:pt x="6821" y="13494"/>
                </a:cubicBezTo>
                <a:cubicBezTo>
                  <a:pt x="6899" y="13488"/>
                  <a:pt x="6919" y="13454"/>
                  <a:pt x="6995" y="13494"/>
                </a:cubicBezTo>
                <a:cubicBezTo>
                  <a:pt x="7059" y="13528"/>
                  <a:pt x="7104" y="13593"/>
                  <a:pt x="7119" y="13667"/>
                </a:cubicBezTo>
                <a:cubicBezTo>
                  <a:pt x="7133" y="13735"/>
                  <a:pt x="7144" y="13794"/>
                  <a:pt x="7144" y="13866"/>
                </a:cubicBezTo>
                <a:cubicBezTo>
                  <a:pt x="7144" y="13992"/>
                  <a:pt x="7158" y="14014"/>
                  <a:pt x="7069" y="14089"/>
                </a:cubicBezTo>
                <a:cubicBezTo>
                  <a:pt x="7014" y="14136"/>
                  <a:pt x="6970" y="14111"/>
                  <a:pt x="6921" y="14064"/>
                </a:cubicBezTo>
                <a:cubicBezTo>
                  <a:pt x="6863" y="14006"/>
                  <a:pt x="6854" y="13998"/>
                  <a:pt x="6821" y="13965"/>
                </a:cubicBezTo>
              </a:path>
              <a:path w="943" h="944">
                <a:moveTo>
                  <a:pt x="7293" y="13171"/>
                </a:moveTo>
                <a:cubicBezTo>
                  <a:pt x="7222" y="13301"/>
                  <a:pt x="7241" y="13298"/>
                  <a:pt x="7342" y="13419"/>
                </a:cubicBezTo>
                <a:cubicBezTo>
                  <a:pt x="7391" y="13478"/>
                  <a:pt x="7451" y="13433"/>
                  <a:pt x="7466" y="13370"/>
                </a:cubicBezTo>
                <a:cubicBezTo>
                  <a:pt x="7473" y="13342"/>
                  <a:pt x="7422" y="13175"/>
                  <a:pt x="7392" y="13171"/>
                </a:cubicBezTo>
                <a:cubicBezTo>
                  <a:pt x="7359" y="13179"/>
                  <a:pt x="7326" y="13188"/>
                  <a:pt x="7293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0" name="Ink 45"/>
          <p:cNvSpPr/>
          <p:nvPr/>
        </p:nvSpPr>
        <p:spPr>
          <a:xfrm>
            <a:off x="2160720" y="570564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6003" y="15850"/>
                </a:moveTo>
                <a:cubicBezTo>
                  <a:pt x="6106" y="15871"/>
                  <a:pt x="6132" y="15881"/>
                  <a:pt x="6226" y="15850"/>
                </a:cubicBezTo>
              </a:path>
              <a:path w="274" h="274">
                <a:moveTo>
                  <a:pt x="6028" y="16098"/>
                </a:moveTo>
                <a:cubicBezTo>
                  <a:pt x="6126" y="16123"/>
                  <a:pt x="6183" y="16133"/>
                  <a:pt x="6276" y="160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1" name="Ink 46"/>
          <p:cNvSpPr/>
          <p:nvPr/>
        </p:nvSpPr>
        <p:spPr>
          <a:xfrm>
            <a:off x="6375240" y="768240"/>
            <a:ext cx="1974960" cy="660600"/>
          </a:xfrm>
          <a:custGeom>
            <a:avLst/>
            <a:gdLst/>
            <a:ahLst/>
            <a:rect l="l" t="t" r="r" b="b"/>
            <a:pathLst>
              <a:path w="5482" h="1837">
                <a:moveTo>
                  <a:pt x="17711" y="2505"/>
                </a:moveTo>
                <a:cubicBezTo>
                  <a:pt x="17772" y="2456"/>
                  <a:pt x="17855" y="2438"/>
                  <a:pt x="17934" y="2431"/>
                </a:cubicBezTo>
                <a:cubicBezTo>
                  <a:pt x="18000" y="2425"/>
                  <a:pt x="18105" y="2415"/>
                  <a:pt x="18157" y="2456"/>
                </a:cubicBezTo>
                <a:cubicBezTo>
                  <a:pt x="18206" y="2495"/>
                  <a:pt x="18228" y="2519"/>
                  <a:pt x="18231" y="2580"/>
                </a:cubicBezTo>
                <a:cubicBezTo>
                  <a:pt x="18235" y="2655"/>
                  <a:pt x="18222" y="2777"/>
                  <a:pt x="18207" y="2853"/>
                </a:cubicBezTo>
                <a:cubicBezTo>
                  <a:pt x="18189" y="2944"/>
                  <a:pt x="18162" y="3032"/>
                  <a:pt x="18157" y="3125"/>
                </a:cubicBezTo>
                <a:cubicBezTo>
                  <a:pt x="18155" y="3161"/>
                  <a:pt x="18157" y="3348"/>
                  <a:pt x="18157" y="3299"/>
                </a:cubicBezTo>
              </a:path>
              <a:path w="5482" h="1837">
                <a:moveTo>
                  <a:pt x="18355" y="2505"/>
                </a:moveTo>
                <a:cubicBezTo>
                  <a:pt x="18431" y="2484"/>
                  <a:pt x="18505" y="2475"/>
                  <a:pt x="18579" y="2456"/>
                </a:cubicBezTo>
                <a:cubicBezTo>
                  <a:pt x="18649" y="2438"/>
                  <a:pt x="18716" y="2428"/>
                  <a:pt x="18777" y="2406"/>
                </a:cubicBezTo>
                <a:cubicBezTo>
                  <a:pt x="18821" y="2384"/>
                  <a:pt x="18833" y="2381"/>
                  <a:pt x="18852" y="2356"/>
                </a:cubicBezTo>
              </a:path>
              <a:path w="5482" h="1837">
                <a:moveTo>
                  <a:pt x="18355" y="2555"/>
                </a:moveTo>
                <a:cubicBezTo>
                  <a:pt x="18327" y="2621"/>
                  <a:pt x="18275" y="2723"/>
                  <a:pt x="18306" y="2803"/>
                </a:cubicBezTo>
                <a:cubicBezTo>
                  <a:pt x="18314" y="2811"/>
                  <a:pt x="18323" y="2820"/>
                  <a:pt x="18331" y="2828"/>
                </a:cubicBezTo>
                <a:cubicBezTo>
                  <a:pt x="18369" y="2789"/>
                  <a:pt x="18415" y="2733"/>
                  <a:pt x="18479" y="2753"/>
                </a:cubicBezTo>
                <a:cubicBezTo>
                  <a:pt x="18523" y="2767"/>
                  <a:pt x="18646" y="2865"/>
                  <a:pt x="18678" y="2902"/>
                </a:cubicBezTo>
                <a:cubicBezTo>
                  <a:pt x="18743" y="2977"/>
                  <a:pt x="18716" y="3022"/>
                  <a:pt x="18703" y="3101"/>
                </a:cubicBezTo>
                <a:cubicBezTo>
                  <a:pt x="18690" y="3178"/>
                  <a:pt x="18670" y="3249"/>
                  <a:pt x="18579" y="3274"/>
                </a:cubicBezTo>
                <a:cubicBezTo>
                  <a:pt x="18509" y="3293"/>
                  <a:pt x="18460" y="3320"/>
                  <a:pt x="18380" y="3324"/>
                </a:cubicBezTo>
                <a:cubicBezTo>
                  <a:pt x="18336" y="3324"/>
                  <a:pt x="18316" y="3327"/>
                  <a:pt x="18355" y="3299"/>
                </a:cubicBezTo>
              </a:path>
              <a:path w="5482" h="1837">
                <a:moveTo>
                  <a:pt x="18926" y="3274"/>
                </a:moveTo>
                <a:cubicBezTo>
                  <a:pt x="18949" y="3297"/>
                  <a:pt x="18957" y="3308"/>
                  <a:pt x="18951" y="3274"/>
                </a:cubicBezTo>
              </a:path>
              <a:path w="5482" h="1837">
                <a:moveTo>
                  <a:pt x="19447" y="2456"/>
                </a:moveTo>
                <a:cubicBezTo>
                  <a:pt x="19529" y="2391"/>
                  <a:pt x="19613" y="2366"/>
                  <a:pt x="19720" y="2356"/>
                </a:cubicBezTo>
                <a:cubicBezTo>
                  <a:pt x="19827" y="2346"/>
                  <a:pt x="19941" y="2379"/>
                  <a:pt x="20042" y="2332"/>
                </a:cubicBezTo>
                <a:cubicBezTo>
                  <a:pt x="20050" y="2324"/>
                  <a:pt x="20059" y="2315"/>
                  <a:pt x="20067" y="2307"/>
                </a:cubicBezTo>
              </a:path>
              <a:path w="5482" h="1837">
                <a:moveTo>
                  <a:pt x="19720" y="2530"/>
                </a:moveTo>
                <a:cubicBezTo>
                  <a:pt x="19689" y="2704"/>
                  <a:pt x="19670" y="2832"/>
                  <a:pt x="19670" y="3001"/>
                </a:cubicBezTo>
                <a:cubicBezTo>
                  <a:pt x="19670" y="3068"/>
                  <a:pt x="19692" y="3103"/>
                  <a:pt x="19745" y="3076"/>
                </a:cubicBezTo>
              </a:path>
              <a:path w="5482" h="1837">
                <a:moveTo>
                  <a:pt x="19844" y="2381"/>
                </a:moveTo>
                <a:cubicBezTo>
                  <a:pt x="19813" y="2494"/>
                  <a:pt x="19819" y="2609"/>
                  <a:pt x="19819" y="2729"/>
                </a:cubicBezTo>
                <a:cubicBezTo>
                  <a:pt x="19819" y="2840"/>
                  <a:pt x="19824" y="2923"/>
                  <a:pt x="19869" y="3026"/>
                </a:cubicBezTo>
                <a:cubicBezTo>
                  <a:pt x="19892" y="3078"/>
                  <a:pt x="19895" y="3089"/>
                  <a:pt x="19943" y="3101"/>
                </a:cubicBezTo>
              </a:path>
              <a:path w="5482" h="1837">
                <a:moveTo>
                  <a:pt x="19372" y="3274"/>
                </a:moveTo>
                <a:cubicBezTo>
                  <a:pt x="19480" y="3265"/>
                  <a:pt x="19588" y="3242"/>
                  <a:pt x="19695" y="3225"/>
                </a:cubicBezTo>
                <a:cubicBezTo>
                  <a:pt x="19869" y="3197"/>
                  <a:pt x="20047" y="3149"/>
                  <a:pt x="20216" y="3101"/>
                </a:cubicBezTo>
                <a:cubicBezTo>
                  <a:pt x="20281" y="3079"/>
                  <a:pt x="20296" y="3071"/>
                  <a:pt x="20340" y="3076"/>
                </a:cubicBezTo>
              </a:path>
              <a:path w="5482" h="1837">
                <a:moveTo>
                  <a:pt x="19596" y="3497"/>
                </a:moveTo>
                <a:cubicBezTo>
                  <a:pt x="19578" y="3680"/>
                  <a:pt x="19588" y="3759"/>
                  <a:pt x="19596" y="3919"/>
                </a:cubicBezTo>
                <a:cubicBezTo>
                  <a:pt x="19596" y="3964"/>
                  <a:pt x="19593" y="3984"/>
                  <a:pt x="19621" y="3944"/>
                </a:cubicBezTo>
              </a:path>
              <a:path w="5482" h="1837">
                <a:moveTo>
                  <a:pt x="20017" y="3373"/>
                </a:moveTo>
                <a:cubicBezTo>
                  <a:pt x="19928" y="3318"/>
                  <a:pt x="19908" y="3342"/>
                  <a:pt x="19819" y="3423"/>
                </a:cubicBezTo>
                <a:cubicBezTo>
                  <a:pt x="19762" y="3475"/>
                  <a:pt x="19740" y="3498"/>
                  <a:pt x="19769" y="3572"/>
                </a:cubicBezTo>
                <a:cubicBezTo>
                  <a:pt x="19793" y="3634"/>
                  <a:pt x="19854" y="3695"/>
                  <a:pt x="19893" y="3746"/>
                </a:cubicBezTo>
                <a:cubicBezTo>
                  <a:pt x="19933" y="3798"/>
                  <a:pt x="19986" y="3904"/>
                  <a:pt x="19869" y="3894"/>
                </a:cubicBezTo>
                <a:cubicBezTo>
                  <a:pt x="19818" y="3890"/>
                  <a:pt x="19759" y="3869"/>
                  <a:pt x="19720" y="3845"/>
                </a:cubicBezTo>
                <a:cubicBezTo>
                  <a:pt x="19775" y="3790"/>
                  <a:pt x="19792" y="3729"/>
                  <a:pt x="19844" y="3671"/>
                </a:cubicBezTo>
                <a:cubicBezTo>
                  <a:pt x="19912" y="3594"/>
                  <a:pt x="20001" y="3547"/>
                  <a:pt x="20067" y="3473"/>
                </a:cubicBezTo>
                <a:cubicBezTo>
                  <a:pt x="20121" y="3412"/>
                  <a:pt x="20163" y="3374"/>
                  <a:pt x="20216" y="3373"/>
                </a:cubicBezTo>
                <a:cubicBezTo>
                  <a:pt x="20170" y="3431"/>
                  <a:pt x="20142" y="3477"/>
                  <a:pt x="20117" y="3547"/>
                </a:cubicBezTo>
                <a:cubicBezTo>
                  <a:pt x="20088" y="3629"/>
                  <a:pt x="20041" y="3688"/>
                  <a:pt x="20092" y="3770"/>
                </a:cubicBezTo>
                <a:cubicBezTo>
                  <a:pt x="20145" y="3855"/>
                  <a:pt x="20217" y="3781"/>
                  <a:pt x="20265" y="3746"/>
                </a:cubicBezTo>
                <a:cubicBezTo>
                  <a:pt x="20345" y="3687"/>
                  <a:pt x="20397" y="3655"/>
                  <a:pt x="20414" y="3547"/>
                </a:cubicBezTo>
                <a:cubicBezTo>
                  <a:pt x="20422" y="3497"/>
                  <a:pt x="20437" y="3369"/>
                  <a:pt x="20365" y="3349"/>
                </a:cubicBezTo>
                <a:cubicBezTo>
                  <a:pt x="20307" y="3333"/>
                  <a:pt x="20293" y="3354"/>
                  <a:pt x="20265" y="3299"/>
                </a:cubicBezTo>
              </a:path>
              <a:path w="5482" h="1837">
                <a:moveTo>
                  <a:pt x="20687" y="3051"/>
                </a:moveTo>
                <a:cubicBezTo>
                  <a:pt x="20812" y="3009"/>
                  <a:pt x="20881" y="3001"/>
                  <a:pt x="21010" y="3001"/>
                </a:cubicBezTo>
              </a:path>
              <a:path w="5482" h="1837">
                <a:moveTo>
                  <a:pt x="20960" y="3249"/>
                </a:moveTo>
                <a:cubicBezTo>
                  <a:pt x="21082" y="3280"/>
                  <a:pt x="21139" y="3288"/>
                  <a:pt x="21233" y="3274"/>
                </a:cubicBezTo>
              </a:path>
              <a:path w="5482" h="1837">
                <a:moveTo>
                  <a:pt x="21754" y="2208"/>
                </a:moveTo>
                <a:cubicBezTo>
                  <a:pt x="21831" y="2198"/>
                  <a:pt x="21899" y="2169"/>
                  <a:pt x="21977" y="2158"/>
                </a:cubicBezTo>
                <a:cubicBezTo>
                  <a:pt x="22029" y="2158"/>
                  <a:pt x="22047" y="2157"/>
                  <a:pt x="22076" y="2133"/>
                </a:cubicBezTo>
              </a:path>
              <a:path w="5482" h="1837">
                <a:moveTo>
                  <a:pt x="21704" y="2332"/>
                </a:moveTo>
                <a:cubicBezTo>
                  <a:pt x="21660" y="2456"/>
                  <a:pt x="21625" y="2481"/>
                  <a:pt x="21704" y="2580"/>
                </a:cubicBezTo>
                <a:cubicBezTo>
                  <a:pt x="21745" y="2539"/>
                  <a:pt x="21786" y="2497"/>
                  <a:pt x="21828" y="2456"/>
                </a:cubicBezTo>
                <a:cubicBezTo>
                  <a:pt x="21895" y="2389"/>
                  <a:pt x="21892" y="2418"/>
                  <a:pt x="21952" y="2456"/>
                </a:cubicBezTo>
                <a:cubicBezTo>
                  <a:pt x="22033" y="2507"/>
                  <a:pt x="22082" y="2553"/>
                  <a:pt x="22101" y="2654"/>
                </a:cubicBezTo>
                <a:cubicBezTo>
                  <a:pt x="22113" y="2716"/>
                  <a:pt x="22096" y="2805"/>
                  <a:pt x="22027" y="2828"/>
                </a:cubicBezTo>
                <a:cubicBezTo>
                  <a:pt x="21989" y="2841"/>
                  <a:pt x="21918" y="2828"/>
                  <a:pt x="21878" y="2828"/>
                </a:cubicBezTo>
              </a:path>
              <a:path w="5482" h="1837">
                <a:moveTo>
                  <a:pt x="21555" y="3101"/>
                </a:moveTo>
                <a:cubicBezTo>
                  <a:pt x="21613" y="3066"/>
                  <a:pt x="21688" y="3064"/>
                  <a:pt x="21754" y="3026"/>
                </a:cubicBezTo>
                <a:cubicBezTo>
                  <a:pt x="21890" y="2947"/>
                  <a:pt x="22021" y="2931"/>
                  <a:pt x="22175" y="2902"/>
                </a:cubicBezTo>
                <a:cubicBezTo>
                  <a:pt x="22277" y="2883"/>
                  <a:pt x="22386" y="2830"/>
                  <a:pt x="22473" y="2778"/>
                </a:cubicBezTo>
                <a:cubicBezTo>
                  <a:pt x="22503" y="2748"/>
                  <a:pt x="22517" y="2737"/>
                  <a:pt x="22547" y="2729"/>
                </a:cubicBezTo>
              </a:path>
              <a:path w="5482" h="1837">
                <a:moveTo>
                  <a:pt x="21878" y="3299"/>
                </a:moveTo>
                <a:cubicBezTo>
                  <a:pt x="21880" y="3384"/>
                  <a:pt x="21867" y="3651"/>
                  <a:pt x="21903" y="3770"/>
                </a:cubicBezTo>
                <a:cubicBezTo>
                  <a:pt x="21925" y="3793"/>
                  <a:pt x="21933" y="3798"/>
                  <a:pt x="21927" y="3820"/>
                </a:cubicBezTo>
              </a:path>
              <a:path w="5482" h="1837">
                <a:moveTo>
                  <a:pt x="21977" y="3373"/>
                </a:moveTo>
                <a:cubicBezTo>
                  <a:pt x="22039" y="3343"/>
                  <a:pt x="22085" y="3303"/>
                  <a:pt x="22151" y="3299"/>
                </a:cubicBezTo>
                <a:cubicBezTo>
                  <a:pt x="22200" y="3299"/>
                  <a:pt x="22217" y="3299"/>
                  <a:pt x="22250" y="3299"/>
                </a:cubicBezTo>
                <a:cubicBezTo>
                  <a:pt x="22278" y="3373"/>
                  <a:pt x="22277" y="3447"/>
                  <a:pt x="22250" y="3522"/>
                </a:cubicBezTo>
                <a:cubicBezTo>
                  <a:pt x="22227" y="3586"/>
                  <a:pt x="22183" y="3638"/>
                  <a:pt x="22151" y="3696"/>
                </a:cubicBezTo>
                <a:cubicBezTo>
                  <a:pt x="22209" y="3731"/>
                  <a:pt x="22242" y="3727"/>
                  <a:pt x="22299" y="3696"/>
                </a:cubicBezTo>
                <a:cubicBezTo>
                  <a:pt x="22425" y="3628"/>
                  <a:pt x="22397" y="3656"/>
                  <a:pt x="22498" y="3522"/>
                </a:cubicBezTo>
              </a:path>
              <a:path w="5482" h="1837">
                <a:moveTo>
                  <a:pt x="22845" y="2406"/>
                </a:moveTo>
                <a:cubicBezTo>
                  <a:pt x="22963" y="2380"/>
                  <a:pt x="23073" y="2342"/>
                  <a:pt x="23192" y="2332"/>
                </a:cubicBezTo>
              </a:path>
              <a:path w="5482" h="1837">
                <a:moveTo>
                  <a:pt x="22870" y="2530"/>
                </a:moveTo>
                <a:cubicBezTo>
                  <a:pt x="22869" y="2539"/>
                  <a:pt x="22779" y="2846"/>
                  <a:pt x="22870" y="2877"/>
                </a:cubicBezTo>
                <a:cubicBezTo>
                  <a:pt x="22878" y="2869"/>
                  <a:pt x="22887" y="2861"/>
                  <a:pt x="22895" y="2853"/>
                </a:cubicBezTo>
              </a:path>
              <a:path w="5482" h="1837">
                <a:moveTo>
                  <a:pt x="23044" y="2381"/>
                </a:moveTo>
                <a:cubicBezTo>
                  <a:pt x="23073" y="2521"/>
                  <a:pt x="23072" y="2668"/>
                  <a:pt x="23192" y="27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2" name="Ink 47"/>
          <p:cNvSpPr/>
          <p:nvPr/>
        </p:nvSpPr>
        <p:spPr>
          <a:xfrm>
            <a:off x="214200" y="598320"/>
            <a:ext cx="1179720" cy="785880"/>
          </a:xfrm>
          <a:custGeom>
            <a:avLst/>
            <a:gdLst/>
            <a:ahLst/>
            <a:rect l="l" t="t" r="r" b="b"/>
            <a:pathLst>
              <a:path w="3276" h="2184">
                <a:moveTo>
                  <a:pt x="595" y="2034"/>
                </a:moveTo>
                <a:cubicBezTo>
                  <a:pt x="692" y="1986"/>
                  <a:pt x="740" y="1981"/>
                  <a:pt x="843" y="1960"/>
                </a:cubicBezTo>
                <a:cubicBezTo>
                  <a:pt x="964" y="1935"/>
                  <a:pt x="1075" y="1863"/>
                  <a:pt x="1191" y="1836"/>
                </a:cubicBezTo>
                <a:cubicBezTo>
                  <a:pt x="1300" y="1811"/>
                  <a:pt x="1430" y="1816"/>
                  <a:pt x="1538" y="1786"/>
                </a:cubicBezTo>
                <a:cubicBezTo>
                  <a:pt x="1585" y="1773"/>
                  <a:pt x="1621" y="1761"/>
                  <a:pt x="1637" y="1736"/>
                </a:cubicBezTo>
              </a:path>
              <a:path w="3276" h="2184">
                <a:moveTo>
                  <a:pt x="1017" y="1935"/>
                </a:moveTo>
                <a:cubicBezTo>
                  <a:pt x="1028" y="2024"/>
                  <a:pt x="1028" y="2071"/>
                  <a:pt x="1017" y="2158"/>
                </a:cubicBezTo>
                <a:cubicBezTo>
                  <a:pt x="1006" y="2246"/>
                  <a:pt x="1037" y="2305"/>
                  <a:pt x="1042" y="2381"/>
                </a:cubicBezTo>
                <a:cubicBezTo>
                  <a:pt x="1046" y="2448"/>
                  <a:pt x="1039" y="2523"/>
                  <a:pt x="1067" y="2580"/>
                </a:cubicBezTo>
                <a:cubicBezTo>
                  <a:pt x="1067" y="2572"/>
                  <a:pt x="1067" y="2563"/>
                  <a:pt x="1067" y="2555"/>
                </a:cubicBezTo>
              </a:path>
              <a:path w="3276" h="2184">
                <a:moveTo>
                  <a:pt x="1265" y="1935"/>
                </a:moveTo>
                <a:cubicBezTo>
                  <a:pt x="1265" y="2086"/>
                  <a:pt x="1263" y="2245"/>
                  <a:pt x="1290" y="2381"/>
                </a:cubicBezTo>
                <a:cubicBezTo>
                  <a:pt x="1305" y="2456"/>
                  <a:pt x="1316" y="2483"/>
                  <a:pt x="1339" y="2555"/>
                </a:cubicBezTo>
                <a:cubicBezTo>
                  <a:pt x="1339" y="2563"/>
                  <a:pt x="1339" y="2572"/>
                  <a:pt x="1339" y="2580"/>
                </a:cubicBezTo>
              </a:path>
              <a:path w="3276" h="2184">
                <a:moveTo>
                  <a:pt x="769" y="2877"/>
                </a:moveTo>
                <a:cubicBezTo>
                  <a:pt x="828" y="2892"/>
                  <a:pt x="898" y="2891"/>
                  <a:pt x="967" y="2877"/>
                </a:cubicBezTo>
                <a:cubicBezTo>
                  <a:pt x="1063" y="2857"/>
                  <a:pt x="1174" y="2836"/>
                  <a:pt x="1265" y="2803"/>
                </a:cubicBezTo>
                <a:cubicBezTo>
                  <a:pt x="1341" y="2775"/>
                  <a:pt x="1414" y="2755"/>
                  <a:pt x="1488" y="2729"/>
                </a:cubicBezTo>
                <a:cubicBezTo>
                  <a:pt x="1546" y="2710"/>
                  <a:pt x="1553" y="2701"/>
                  <a:pt x="1588" y="2704"/>
                </a:cubicBezTo>
              </a:path>
              <a:path w="3276" h="2184">
                <a:moveTo>
                  <a:pt x="1042" y="3150"/>
                </a:moveTo>
                <a:cubicBezTo>
                  <a:pt x="1071" y="3099"/>
                  <a:pt x="1102" y="3041"/>
                  <a:pt x="1166" y="3026"/>
                </a:cubicBezTo>
                <a:cubicBezTo>
                  <a:pt x="1212" y="3015"/>
                  <a:pt x="1304" y="2988"/>
                  <a:pt x="1339" y="3051"/>
                </a:cubicBezTo>
                <a:cubicBezTo>
                  <a:pt x="1374" y="3112"/>
                  <a:pt x="1310" y="3197"/>
                  <a:pt x="1290" y="3249"/>
                </a:cubicBezTo>
                <a:cubicBezTo>
                  <a:pt x="1240" y="3377"/>
                  <a:pt x="1203" y="3440"/>
                  <a:pt x="1116" y="3547"/>
                </a:cubicBezTo>
                <a:cubicBezTo>
                  <a:pt x="1045" y="3634"/>
                  <a:pt x="999" y="3727"/>
                  <a:pt x="918" y="3795"/>
                </a:cubicBezTo>
                <a:cubicBezTo>
                  <a:pt x="910" y="3803"/>
                  <a:pt x="901" y="3812"/>
                  <a:pt x="893" y="3820"/>
                </a:cubicBezTo>
                <a:cubicBezTo>
                  <a:pt x="961" y="3843"/>
                  <a:pt x="1003" y="3805"/>
                  <a:pt x="1067" y="3795"/>
                </a:cubicBezTo>
                <a:cubicBezTo>
                  <a:pt x="1149" y="3783"/>
                  <a:pt x="1236" y="3756"/>
                  <a:pt x="1315" y="3746"/>
                </a:cubicBezTo>
                <a:cubicBezTo>
                  <a:pt x="1413" y="3734"/>
                  <a:pt x="1460" y="3783"/>
                  <a:pt x="1488" y="3696"/>
                </a:cubicBezTo>
              </a:path>
              <a:path w="3276" h="2184">
                <a:moveTo>
                  <a:pt x="1736" y="2679"/>
                </a:moveTo>
                <a:cubicBezTo>
                  <a:pt x="1805" y="2651"/>
                  <a:pt x="1864" y="2603"/>
                  <a:pt x="1935" y="2580"/>
                </a:cubicBezTo>
                <a:cubicBezTo>
                  <a:pt x="2009" y="2556"/>
                  <a:pt x="2042" y="2540"/>
                  <a:pt x="2108" y="2530"/>
                </a:cubicBezTo>
              </a:path>
              <a:path w="3276" h="2184">
                <a:moveTo>
                  <a:pt x="1836" y="2853"/>
                </a:moveTo>
                <a:cubicBezTo>
                  <a:pt x="1930" y="2844"/>
                  <a:pt x="1972" y="2812"/>
                  <a:pt x="2059" y="2778"/>
                </a:cubicBezTo>
                <a:cubicBezTo>
                  <a:pt x="2124" y="2756"/>
                  <a:pt x="2139" y="2748"/>
                  <a:pt x="2183" y="2753"/>
                </a:cubicBezTo>
              </a:path>
              <a:path w="3276" h="2184">
                <a:moveTo>
                  <a:pt x="2629" y="2505"/>
                </a:moveTo>
                <a:cubicBezTo>
                  <a:pt x="2822" y="2505"/>
                  <a:pt x="3012" y="2497"/>
                  <a:pt x="3200" y="2480"/>
                </a:cubicBezTo>
                <a:cubicBezTo>
                  <a:pt x="3318" y="2469"/>
                  <a:pt x="3431" y="2446"/>
                  <a:pt x="3547" y="2431"/>
                </a:cubicBezTo>
                <a:cubicBezTo>
                  <a:pt x="3619" y="2422"/>
                  <a:pt x="3697" y="2431"/>
                  <a:pt x="3770" y="2431"/>
                </a:cubicBezTo>
              </a:path>
              <a:path w="3276" h="2184">
                <a:moveTo>
                  <a:pt x="2704" y="1662"/>
                </a:moveTo>
                <a:cubicBezTo>
                  <a:pt x="2659" y="1810"/>
                  <a:pt x="2624" y="1960"/>
                  <a:pt x="2580" y="2108"/>
                </a:cubicBezTo>
                <a:cubicBezTo>
                  <a:pt x="2556" y="2189"/>
                  <a:pt x="2529" y="2285"/>
                  <a:pt x="2580" y="2356"/>
                </a:cubicBezTo>
                <a:cubicBezTo>
                  <a:pt x="2624" y="2417"/>
                  <a:pt x="2627" y="2451"/>
                  <a:pt x="2704" y="2456"/>
                </a:cubicBezTo>
                <a:cubicBezTo>
                  <a:pt x="2809" y="2462"/>
                  <a:pt x="2878" y="2400"/>
                  <a:pt x="2952" y="2332"/>
                </a:cubicBezTo>
                <a:cubicBezTo>
                  <a:pt x="2983" y="2304"/>
                  <a:pt x="3010" y="2202"/>
                  <a:pt x="3001" y="2158"/>
                </a:cubicBezTo>
                <a:cubicBezTo>
                  <a:pt x="2993" y="2141"/>
                  <a:pt x="2985" y="2125"/>
                  <a:pt x="2977" y="2108"/>
                </a:cubicBezTo>
                <a:cubicBezTo>
                  <a:pt x="2950" y="2208"/>
                  <a:pt x="2926" y="2280"/>
                  <a:pt x="2952" y="2381"/>
                </a:cubicBezTo>
                <a:cubicBezTo>
                  <a:pt x="2981" y="2491"/>
                  <a:pt x="3012" y="2475"/>
                  <a:pt x="3101" y="2456"/>
                </a:cubicBezTo>
              </a:path>
              <a:path w="3276" h="2184">
                <a:moveTo>
                  <a:pt x="3249" y="1786"/>
                </a:moveTo>
                <a:cubicBezTo>
                  <a:pt x="3348" y="1768"/>
                  <a:pt x="3452" y="1751"/>
                  <a:pt x="3547" y="1736"/>
                </a:cubicBezTo>
                <a:cubicBezTo>
                  <a:pt x="3625" y="1724"/>
                  <a:pt x="3655" y="1739"/>
                  <a:pt x="3721" y="1687"/>
                </a:cubicBezTo>
              </a:path>
              <a:path w="3276" h="2184">
                <a:moveTo>
                  <a:pt x="3448" y="1736"/>
                </a:moveTo>
                <a:cubicBezTo>
                  <a:pt x="3440" y="1839"/>
                  <a:pt x="3442" y="1958"/>
                  <a:pt x="3423" y="2059"/>
                </a:cubicBezTo>
                <a:cubicBezTo>
                  <a:pt x="3408" y="2138"/>
                  <a:pt x="3387" y="2205"/>
                  <a:pt x="3423" y="2282"/>
                </a:cubicBezTo>
                <a:cubicBezTo>
                  <a:pt x="3431" y="2290"/>
                  <a:pt x="3440" y="2299"/>
                  <a:pt x="3448" y="2307"/>
                </a:cubicBezTo>
              </a:path>
              <a:path w="3276" h="2184">
                <a:moveTo>
                  <a:pt x="3597" y="1811"/>
                </a:moveTo>
                <a:cubicBezTo>
                  <a:pt x="3616" y="1904"/>
                  <a:pt x="3603" y="1994"/>
                  <a:pt x="3621" y="2084"/>
                </a:cubicBezTo>
                <a:cubicBezTo>
                  <a:pt x="3636" y="2163"/>
                  <a:pt x="3651" y="2263"/>
                  <a:pt x="3696" y="2332"/>
                </a:cubicBezTo>
                <a:cubicBezTo>
                  <a:pt x="3725" y="2360"/>
                  <a:pt x="3733" y="2373"/>
                  <a:pt x="3721" y="2406"/>
                </a:cubicBezTo>
              </a:path>
              <a:path w="3276" h="2184">
                <a:moveTo>
                  <a:pt x="2803" y="2753"/>
                </a:moveTo>
                <a:cubicBezTo>
                  <a:pt x="2787" y="2883"/>
                  <a:pt x="2778" y="2996"/>
                  <a:pt x="2778" y="3125"/>
                </a:cubicBezTo>
                <a:cubicBezTo>
                  <a:pt x="2778" y="3215"/>
                  <a:pt x="2818" y="3289"/>
                  <a:pt x="2853" y="3373"/>
                </a:cubicBezTo>
                <a:cubicBezTo>
                  <a:pt x="2861" y="3390"/>
                  <a:pt x="2869" y="3406"/>
                  <a:pt x="2877" y="3423"/>
                </a:cubicBezTo>
              </a:path>
              <a:path w="3276" h="2184">
                <a:moveTo>
                  <a:pt x="3026" y="2927"/>
                </a:moveTo>
                <a:cubicBezTo>
                  <a:pt x="3087" y="2872"/>
                  <a:pt x="3148" y="2810"/>
                  <a:pt x="3225" y="2778"/>
                </a:cubicBezTo>
                <a:cubicBezTo>
                  <a:pt x="3270" y="2759"/>
                  <a:pt x="3413" y="2744"/>
                  <a:pt x="3423" y="2828"/>
                </a:cubicBezTo>
                <a:cubicBezTo>
                  <a:pt x="3440" y="2971"/>
                  <a:pt x="3406" y="3017"/>
                  <a:pt x="3349" y="3125"/>
                </a:cubicBezTo>
                <a:cubicBezTo>
                  <a:pt x="3324" y="3173"/>
                  <a:pt x="3262" y="3252"/>
                  <a:pt x="3249" y="3299"/>
                </a:cubicBezTo>
                <a:cubicBezTo>
                  <a:pt x="3249" y="3316"/>
                  <a:pt x="3249" y="3332"/>
                  <a:pt x="3249" y="3349"/>
                </a:cubicBezTo>
                <a:cubicBezTo>
                  <a:pt x="3328" y="3368"/>
                  <a:pt x="3411" y="3356"/>
                  <a:pt x="3497" y="3324"/>
                </a:cubicBezTo>
                <a:cubicBezTo>
                  <a:pt x="3582" y="3293"/>
                  <a:pt x="3654" y="3254"/>
                  <a:pt x="3746" y="3249"/>
                </a:cubicBezTo>
                <a:cubicBezTo>
                  <a:pt x="3787" y="3247"/>
                  <a:pt x="3829" y="3249"/>
                  <a:pt x="3870" y="32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3" name="Ink 48"/>
          <p:cNvSpPr/>
          <p:nvPr/>
        </p:nvSpPr>
        <p:spPr>
          <a:xfrm>
            <a:off x="8197920" y="160200"/>
            <a:ext cx="527040" cy="331920"/>
          </a:xfrm>
          <a:custGeom>
            <a:avLst/>
            <a:gdLst/>
            <a:ahLst/>
            <a:rect l="l" t="t" r="r" b="b"/>
            <a:pathLst>
              <a:path w="1464" h="919">
                <a:moveTo>
                  <a:pt x="22771" y="695"/>
                </a:moveTo>
                <a:cubicBezTo>
                  <a:pt x="22842" y="623"/>
                  <a:pt x="22953" y="539"/>
                  <a:pt x="23068" y="521"/>
                </a:cubicBezTo>
                <a:cubicBezTo>
                  <a:pt x="23208" y="499"/>
                  <a:pt x="23346" y="496"/>
                  <a:pt x="23490" y="496"/>
                </a:cubicBezTo>
                <a:cubicBezTo>
                  <a:pt x="23562" y="496"/>
                  <a:pt x="23654" y="383"/>
                  <a:pt x="23688" y="446"/>
                </a:cubicBezTo>
                <a:cubicBezTo>
                  <a:pt x="23680" y="454"/>
                  <a:pt x="23672" y="463"/>
                  <a:pt x="23664" y="471"/>
                </a:cubicBezTo>
              </a:path>
              <a:path w="1464" h="919">
                <a:moveTo>
                  <a:pt x="23093" y="496"/>
                </a:moveTo>
                <a:cubicBezTo>
                  <a:pt x="23093" y="582"/>
                  <a:pt x="23102" y="662"/>
                  <a:pt x="23118" y="744"/>
                </a:cubicBezTo>
                <a:cubicBezTo>
                  <a:pt x="23145" y="883"/>
                  <a:pt x="23175" y="1024"/>
                  <a:pt x="23192" y="1166"/>
                </a:cubicBezTo>
                <a:cubicBezTo>
                  <a:pt x="23198" y="1214"/>
                  <a:pt x="23192" y="1267"/>
                  <a:pt x="23192" y="1315"/>
                </a:cubicBezTo>
                <a:cubicBezTo>
                  <a:pt x="23165" y="1259"/>
                  <a:pt x="23157" y="1237"/>
                  <a:pt x="23168" y="1191"/>
                </a:cubicBezTo>
              </a:path>
              <a:path w="1464" h="919">
                <a:moveTo>
                  <a:pt x="23292" y="446"/>
                </a:moveTo>
                <a:cubicBezTo>
                  <a:pt x="23292" y="640"/>
                  <a:pt x="23313" y="802"/>
                  <a:pt x="23341" y="992"/>
                </a:cubicBezTo>
                <a:cubicBezTo>
                  <a:pt x="23354" y="1083"/>
                  <a:pt x="23361" y="1160"/>
                  <a:pt x="23416" y="1240"/>
                </a:cubicBezTo>
                <a:cubicBezTo>
                  <a:pt x="23448" y="1287"/>
                  <a:pt x="23514" y="1351"/>
                  <a:pt x="23564" y="1364"/>
                </a:cubicBezTo>
              </a:path>
              <a:path w="1464" h="919">
                <a:moveTo>
                  <a:pt x="23837" y="1215"/>
                </a:moveTo>
                <a:cubicBezTo>
                  <a:pt x="23878" y="1192"/>
                  <a:pt x="23913" y="1184"/>
                  <a:pt x="23961" y="1166"/>
                </a:cubicBezTo>
              </a:path>
              <a:path w="1464" h="919">
                <a:moveTo>
                  <a:pt x="23961" y="1290"/>
                </a:moveTo>
                <a:cubicBezTo>
                  <a:pt x="24007" y="1267"/>
                  <a:pt x="24086" y="1250"/>
                  <a:pt x="24135" y="1240"/>
                </a:cubicBezTo>
                <a:cubicBezTo>
                  <a:pt x="24187" y="1240"/>
                  <a:pt x="24205" y="1239"/>
                  <a:pt x="24234" y="12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4" name="Ink 49"/>
          <p:cNvSpPr/>
          <p:nvPr/>
        </p:nvSpPr>
        <p:spPr>
          <a:xfrm>
            <a:off x="6643800" y="4697280"/>
            <a:ext cx="554040" cy="1438560"/>
          </a:xfrm>
          <a:custGeom>
            <a:avLst/>
            <a:gdLst/>
            <a:ahLst/>
            <a:rect l="l" t="t" r="r" b="b"/>
            <a:pathLst>
              <a:path w="1539" h="3995">
                <a:moveTo>
                  <a:pt x="18802" y="13047"/>
                </a:moveTo>
                <a:cubicBezTo>
                  <a:pt x="18846" y="13120"/>
                  <a:pt x="18812" y="13145"/>
                  <a:pt x="18802" y="13221"/>
                </a:cubicBezTo>
                <a:cubicBezTo>
                  <a:pt x="18790" y="13312"/>
                  <a:pt x="18789" y="13404"/>
                  <a:pt x="18777" y="13494"/>
                </a:cubicBezTo>
                <a:cubicBezTo>
                  <a:pt x="18767" y="13566"/>
                  <a:pt x="18768" y="13616"/>
                  <a:pt x="18752" y="13692"/>
                </a:cubicBezTo>
              </a:path>
              <a:path w="1539" h="3995">
                <a:moveTo>
                  <a:pt x="19025" y="13122"/>
                </a:moveTo>
                <a:cubicBezTo>
                  <a:pt x="19019" y="13190"/>
                  <a:pt x="19018" y="13278"/>
                  <a:pt x="19000" y="13345"/>
                </a:cubicBezTo>
                <a:cubicBezTo>
                  <a:pt x="18983" y="13409"/>
                  <a:pt x="18962" y="13487"/>
                  <a:pt x="18951" y="13543"/>
                </a:cubicBezTo>
                <a:cubicBezTo>
                  <a:pt x="18941" y="13594"/>
                  <a:pt x="18951" y="13666"/>
                  <a:pt x="18951" y="13717"/>
                </a:cubicBezTo>
              </a:path>
              <a:path w="1539" h="3995">
                <a:moveTo>
                  <a:pt x="18455" y="13940"/>
                </a:moveTo>
                <a:cubicBezTo>
                  <a:pt x="18544" y="13940"/>
                  <a:pt x="18621" y="13926"/>
                  <a:pt x="18703" y="13915"/>
                </a:cubicBezTo>
                <a:cubicBezTo>
                  <a:pt x="18779" y="13905"/>
                  <a:pt x="18880" y="13891"/>
                  <a:pt x="18951" y="13866"/>
                </a:cubicBezTo>
                <a:cubicBezTo>
                  <a:pt x="19059" y="13827"/>
                  <a:pt x="19111" y="13816"/>
                  <a:pt x="19224" y="13816"/>
                </a:cubicBezTo>
                <a:cubicBezTo>
                  <a:pt x="19240" y="13816"/>
                  <a:pt x="19257" y="13816"/>
                  <a:pt x="19273" y="13816"/>
                </a:cubicBezTo>
              </a:path>
              <a:path w="1539" h="3995">
                <a:moveTo>
                  <a:pt x="18728" y="14213"/>
                </a:moveTo>
                <a:cubicBezTo>
                  <a:pt x="18694" y="14298"/>
                  <a:pt x="18666" y="14368"/>
                  <a:pt x="18653" y="14461"/>
                </a:cubicBezTo>
                <a:cubicBezTo>
                  <a:pt x="18642" y="14541"/>
                  <a:pt x="18644" y="14630"/>
                  <a:pt x="18628" y="14709"/>
                </a:cubicBezTo>
                <a:cubicBezTo>
                  <a:pt x="18609" y="14802"/>
                  <a:pt x="18597" y="14798"/>
                  <a:pt x="18628" y="14883"/>
                </a:cubicBezTo>
              </a:path>
              <a:path w="1539" h="3995">
                <a:moveTo>
                  <a:pt x="18827" y="14188"/>
                </a:moveTo>
                <a:cubicBezTo>
                  <a:pt x="18876" y="14103"/>
                  <a:pt x="18899" y="14094"/>
                  <a:pt x="19000" y="14089"/>
                </a:cubicBezTo>
                <a:cubicBezTo>
                  <a:pt x="19069" y="14086"/>
                  <a:pt x="19117" y="14138"/>
                  <a:pt x="19100" y="14213"/>
                </a:cubicBezTo>
                <a:cubicBezTo>
                  <a:pt x="19083" y="14290"/>
                  <a:pt x="19028" y="14362"/>
                  <a:pt x="19000" y="14436"/>
                </a:cubicBezTo>
                <a:cubicBezTo>
                  <a:pt x="18969" y="14516"/>
                  <a:pt x="18980" y="14568"/>
                  <a:pt x="18926" y="14635"/>
                </a:cubicBezTo>
                <a:cubicBezTo>
                  <a:pt x="18977" y="14656"/>
                  <a:pt x="19023" y="14628"/>
                  <a:pt x="19075" y="14585"/>
                </a:cubicBezTo>
                <a:cubicBezTo>
                  <a:pt x="19127" y="14542"/>
                  <a:pt x="19142" y="14519"/>
                  <a:pt x="19199" y="14486"/>
                </a:cubicBezTo>
              </a:path>
              <a:path w="1539" h="3995">
                <a:moveTo>
                  <a:pt x="19496" y="13320"/>
                </a:moveTo>
                <a:cubicBezTo>
                  <a:pt x="19581" y="13320"/>
                  <a:pt x="19664" y="13315"/>
                  <a:pt x="19745" y="13295"/>
                </a:cubicBezTo>
                <a:cubicBezTo>
                  <a:pt x="19812" y="13273"/>
                  <a:pt x="19830" y="13269"/>
                  <a:pt x="19869" y="13246"/>
                </a:cubicBezTo>
              </a:path>
              <a:path w="1539" h="3995">
                <a:moveTo>
                  <a:pt x="19621" y="13345"/>
                </a:moveTo>
                <a:cubicBezTo>
                  <a:pt x="19582" y="13467"/>
                  <a:pt x="19538" y="13569"/>
                  <a:pt x="19521" y="13692"/>
                </a:cubicBezTo>
                <a:cubicBezTo>
                  <a:pt x="19513" y="13754"/>
                  <a:pt x="19467" y="13858"/>
                  <a:pt x="19472" y="13915"/>
                </a:cubicBezTo>
                <a:cubicBezTo>
                  <a:pt x="19480" y="13940"/>
                  <a:pt x="19488" y="13965"/>
                  <a:pt x="19496" y="13990"/>
                </a:cubicBezTo>
              </a:path>
              <a:path w="1539" h="3995">
                <a:moveTo>
                  <a:pt x="19745" y="13221"/>
                </a:moveTo>
                <a:cubicBezTo>
                  <a:pt x="19715" y="13312"/>
                  <a:pt x="19720" y="13396"/>
                  <a:pt x="19720" y="13494"/>
                </a:cubicBezTo>
                <a:cubicBezTo>
                  <a:pt x="19720" y="13523"/>
                  <a:pt x="19754" y="13649"/>
                  <a:pt x="19769" y="13667"/>
                </a:cubicBezTo>
                <a:cubicBezTo>
                  <a:pt x="19805" y="13710"/>
                  <a:pt x="19917" y="13741"/>
                  <a:pt x="19968" y="13767"/>
                </a:cubicBezTo>
              </a:path>
              <a:path w="1539" h="3995">
                <a:moveTo>
                  <a:pt x="19075" y="15280"/>
                </a:moveTo>
                <a:cubicBezTo>
                  <a:pt x="19056" y="15337"/>
                  <a:pt x="19047" y="15344"/>
                  <a:pt x="19050" y="15379"/>
                </a:cubicBezTo>
              </a:path>
              <a:path w="1539" h="3995">
                <a:moveTo>
                  <a:pt x="19025" y="15503"/>
                </a:moveTo>
                <a:cubicBezTo>
                  <a:pt x="19017" y="15511"/>
                  <a:pt x="19008" y="15520"/>
                  <a:pt x="19000" y="15528"/>
                </a:cubicBezTo>
                <a:cubicBezTo>
                  <a:pt x="19030" y="15540"/>
                  <a:pt x="19128" y="15546"/>
                  <a:pt x="19174" y="15528"/>
                </a:cubicBezTo>
                <a:cubicBezTo>
                  <a:pt x="19228" y="15507"/>
                  <a:pt x="19262" y="15487"/>
                  <a:pt x="19323" y="15478"/>
                </a:cubicBezTo>
              </a:path>
              <a:path w="1539" h="3995">
                <a:moveTo>
                  <a:pt x="19372" y="15255"/>
                </a:moveTo>
                <a:cubicBezTo>
                  <a:pt x="19356" y="15255"/>
                  <a:pt x="19339" y="15255"/>
                  <a:pt x="19323" y="15255"/>
                </a:cubicBezTo>
                <a:cubicBezTo>
                  <a:pt x="19315" y="15323"/>
                  <a:pt x="19281" y="15398"/>
                  <a:pt x="19273" y="15453"/>
                </a:cubicBezTo>
                <a:cubicBezTo>
                  <a:pt x="19261" y="15532"/>
                  <a:pt x="19266" y="15622"/>
                  <a:pt x="19248" y="15701"/>
                </a:cubicBezTo>
                <a:cubicBezTo>
                  <a:pt x="19232" y="15769"/>
                  <a:pt x="19224" y="15799"/>
                  <a:pt x="19224" y="15875"/>
                </a:cubicBezTo>
              </a:path>
              <a:path w="1539" h="3995">
                <a:moveTo>
                  <a:pt x="19496" y="15304"/>
                </a:moveTo>
                <a:cubicBezTo>
                  <a:pt x="19597" y="15233"/>
                  <a:pt x="19659" y="15199"/>
                  <a:pt x="19769" y="15180"/>
                </a:cubicBezTo>
                <a:cubicBezTo>
                  <a:pt x="19830" y="15169"/>
                  <a:pt x="19879" y="15162"/>
                  <a:pt x="19943" y="15156"/>
                </a:cubicBezTo>
              </a:path>
              <a:path w="1539" h="3995">
                <a:moveTo>
                  <a:pt x="19695" y="15255"/>
                </a:moveTo>
                <a:cubicBezTo>
                  <a:pt x="19657" y="15368"/>
                  <a:pt x="19642" y="15462"/>
                  <a:pt x="19621" y="15577"/>
                </a:cubicBezTo>
                <a:cubicBezTo>
                  <a:pt x="19621" y="15585"/>
                  <a:pt x="19621" y="15594"/>
                  <a:pt x="19621" y="15602"/>
                </a:cubicBezTo>
              </a:path>
              <a:path w="1539" h="3995">
                <a:moveTo>
                  <a:pt x="19745" y="15304"/>
                </a:moveTo>
                <a:cubicBezTo>
                  <a:pt x="19745" y="15376"/>
                  <a:pt x="19724" y="15414"/>
                  <a:pt x="19720" y="15478"/>
                </a:cubicBezTo>
                <a:cubicBezTo>
                  <a:pt x="19715" y="15567"/>
                  <a:pt x="19716" y="15623"/>
                  <a:pt x="19720" y="15701"/>
                </a:cubicBezTo>
                <a:cubicBezTo>
                  <a:pt x="19720" y="15726"/>
                  <a:pt x="19720" y="15751"/>
                  <a:pt x="19720" y="15776"/>
                </a:cubicBezTo>
              </a:path>
              <a:path w="1539" h="3995">
                <a:moveTo>
                  <a:pt x="19124" y="16049"/>
                </a:moveTo>
                <a:cubicBezTo>
                  <a:pt x="19113" y="16015"/>
                  <a:pt x="19179" y="16001"/>
                  <a:pt x="19248" y="15974"/>
                </a:cubicBezTo>
                <a:cubicBezTo>
                  <a:pt x="19338" y="15938"/>
                  <a:pt x="19406" y="15882"/>
                  <a:pt x="19496" y="15850"/>
                </a:cubicBezTo>
                <a:cubicBezTo>
                  <a:pt x="19572" y="15823"/>
                  <a:pt x="19643" y="15767"/>
                  <a:pt x="19720" y="15751"/>
                </a:cubicBezTo>
                <a:cubicBezTo>
                  <a:pt x="19797" y="15735"/>
                  <a:pt x="19848" y="15716"/>
                  <a:pt x="19918" y="15751"/>
                </a:cubicBezTo>
                <a:cubicBezTo>
                  <a:pt x="19995" y="15790"/>
                  <a:pt x="19990" y="15776"/>
                  <a:pt x="19968" y="15850"/>
                </a:cubicBezTo>
              </a:path>
              <a:path w="1539" h="3995">
                <a:moveTo>
                  <a:pt x="19472" y="16197"/>
                </a:moveTo>
                <a:cubicBezTo>
                  <a:pt x="19512" y="16157"/>
                  <a:pt x="19555" y="16135"/>
                  <a:pt x="19596" y="16098"/>
                </a:cubicBezTo>
                <a:cubicBezTo>
                  <a:pt x="19654" y="16046"/>
                  <a:pt x="19707" y="16018"/>
                  <a:pt x="19769" y="15974"/>
                </a:cubicBezTo>
                <a:cubicBezTo>
                  <a:pt x="19777" y="15966"/>
                  <a:pt x="19786" y="15957"/>
                  <a:pt x="19794" y="15949"/>
                </a:cubicBezTo>
                <a:cubicBezTo>
                  <a:pt x="19808" y="15977"/>
                  <a:pt x="19808" y="16048"/>
                  <a:pt x="19794" y="16098"/>
                </a:cubicBezTo>
                <a:cubicBezTo>
                  <a:pt x="19769" y="16186"/>
                  <a:pt x="19740" y="16279"/>
                  <a:pt x="19720" y="16371"/>
                </a:cubicBezTo>
                <a:cubicBezTo>
                  <a:pt x="19672" y="16593"/>
                  <a:pt x="19634" y="16817"/>
                  <a:pt x="19596" y="170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adc78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eadc78"/>
                </a:solidFill>
                <a:latin typeface="Arial"/>
              </a:rPr>
              <a:t>Pages 291-292</a:t>
            </a:r>
            <a:br>
              <a:rPr sz="7500"/>
            </a:br>
            <a:r>
              <a:rPr b="0" lang="en-US" sz="7500" spc="-1" strike="noStrike">
                <a:solidFill>
                  <a:srgbClr val="eadc78"/>
                </a:solidFill>
                <a:latin typeface="Arial"/>
              </a:rPr>
              <a:t>#5-9,19-21,       27-29,39-41</a:t>
            </a:r>
            <a:br>
              <a:rPr sz="7500"/>
            </a:br>
            <a:r>
              <a:rPr b="0" lang="en-US" sz="2400" spc="-1" strike="noStrike">
                <a:solidFill>
                  <a:srgbClr val="eadc78"/>
                </a:solidFill>
                <a:latin typeface="Arial"/>
              </a:rPr>
              <a:t>* answer to 21 in book is wrong!</a:t>
            </a:r>
            <a:endParaRPr b="0" lang="en-US" sz="2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Questions from HW</a:t>
            </a:r>
            <a:br>
              <a:rPr sz="4000"/>
            </a:b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(pg 292 #43-69)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adc78"/>
                </a:solidFill>
                <a:latin typeface="Arial"/>
              </a:rPr>
              <a:t>Lesson 4.1</a:t>
            </a:r>
            <a:br>
              <a:rPr sz="8500"/>
            </a:br>
            <a:r>
              <a:rPr b="0" lang="en-US" sz="8500" spc="-1" strike="noStrike">
                <a:solidFill>
                  <a:srgbClr val="eadc78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Be able to determine which quadrant a degree </a:t>
            </a:r>
            <a:r>
              <a:rPr b="0" lang="en-US" sz="4000" spc="-1" strike="noStrike" u="sng">
                <a:solidFill>
                  <a:srgbClr val="eadc78"/>
                </a:solidFill>
                <a:uFillTx/>
                <a:latin typeface="Arial"/>
              </a:rPr>
              <a:t>or</a:t>
            </a: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 radian would fall in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0" name="Ink 3"/>
          <p:cNvSpPr/>
          <p:nvPr/>
        </p:nvSpPr>
        <p:spPr>
          <a:xfrm>
            <a:off x="1098720" y="2581200"/>
            <a:ext cx="2251080" cy="2089080"/>
          </a:xfrm>
          <a:custGeom>
            <a:avLst/>
            <a:gdLst/>
            <a:ahLst/>
            <a:rect l="l" t="t" r="r" b="b"/>
            <a:pathLst>
              <a:path w="6252" h="5805">
                <a:moveTo>
                  <a:pt x="6945" y="7317"/>
                </a:moveTo>
                <a:cubicBezTo>
                  <a:pt x="6910" y="7301"/>
                  <a:pt x="6882" y="7258"/>
                  <a:pt x="6846" y="7243"/>
                </a:cubicBezTo>
                <a:cubicBezTo>
                  <a:pt x="6763" y="7210"/>
                  <a:pt x="6683" y="7208"/>
                  <a:pt x="6598" y="7193"/>
                </a:cubicBezTo>
                <a:cubicBezTo>
                  <a:pt x="6506" y="7177"/>
                  <a:pt x="6420" y="7174"/>
                  <a:pt x="6325" y="7169"/>
                </a:cubicBezTo>
                <a:cubicBezTo>
                  <a:pt x="6153" y="7161"/>
                  <a:pt x="5972" y="7167"/>
                  <a:pt x="5804" y="7193"/>
                </a:cubicBezTo>
                <a:cubicBezTo>
                  <a:pt x="5706" y="7208"/>
                  <a:pt x="5606" y="7227"/>
                  <a:pt x="5507" y="7243"/>
                </a:cubicBezTo>
                <a:cubicBezTo>
                  <a:pt x="5388" y="7262"/>
                  <a:pt x="5276" y="7286"/>
                  <a:pt x="5159" y="7317"/>
                </a:cubicBezTo>
                <a:cubicBezTo>
                  <a:pt x="5007" y="7357"/>
                  <a:pt x="4898" y="7422"/>
                  <a:pt x="4762" y="7491"/>
                </a:cubicBezTo>
                <a:cubicBezTo>
                  <a:pt x="4666" y="7540"/>
                  <a:pt x="4555" y="7584"/>
                  <a:pt x="4465" y="7640"/>
                </a:cubicBezTo>
                <a:cubicBezTo>
                  <a:pt x="4375" y="7696"/>
                  <a:pt x="4273" y="7769"/>
                  <a:pt x="4192" y="7838"/>
                </a:cubicBezTo>
                <a:cubicBezTo>
                  <a:pt x="4119" y="7900"/>
                  <a:pt x="4044" y="7991"/>
                  <a:pt x="3969" y="8062"/>
                </a:cubicBezTo>
                <a:cubicBezTo>
                  <a:pt x="3814" y="8207"/>
                  <a:pt x="3708" y="8348"/>
                  <a:pt x="3597" y="8508"/>
                </a:cubicBezTo>
                <a:cubicBezTo>
                  <a:pt x="3533" y="8601"/>
                  <a:pt x="3477" y="8680"/>
                  <a:pt x="3423" y="8781"/>
                </a:cubicBezTo>
                <a:cubicBezTo>
                  <a:pt x="3355" y="8909"/>
                  <a:pt x="3298" y="9041"/>
                  <a:pt x="3249" y="9178"/>
                </a:cubicBezTo>
                <a:cubicBezTo>
                  <a:pt x="3203" y="9306"/>
                  <a:pt x="3174" y="9444"/>
                  <a:pt x="3150" y="9575"/>
                </a:cubicBezTo>
                <a:cubicBezTo>
                  <a:pt x="3126" y="9708"/>
                  <a:pt x="3088" y="9860"/>
                  <a:pt x="3076" y="9996"/>
                </a:cubicBezTo>
                <a:cubicBezTo>
                  <a:pt x="3062" y="10153"/>
                  <a:pt x="3078" y="10315"/>
                  <a:pt x="3101" y="10468"/>
                </a:cubicBezTo>
                <a:cubicBezTo>
                  <a:pt x="3123" y="10616"/>
                  <a:pt x="3159" y="10843"/>
                  <a:pt x="3225" y="10988"/>
                </a:cubicBezTo>
                <a:cubicBezTo>
                  <a:pt x="3278" y="11106"/>
                  <a:pt x="3350" y="11230"/>
                  <a:pt x="3423" y="11336"/>
                </a:cubicBezTo>
                <a:cubicBezTo>
                  <a:pt x="3487" y="11430"/>
                  <a:pt x="3564" y="11530"/>
                  <a:pt x="3646" y="11609"/>
                </a:cubicBezTo>
                <a:cubicBezTo>
                  <a:pt x="3741" y="11700"/>
                  <a:pt x="3837" y="11786"/>
                  <a:pt x="3944" y="11857"/>
                </a:cubicBezTo>
                <a:cubicBezTo>
                  <a:pt x="4060" y="11934"/>
                  <a:pt x="4173" y="12007"/>
                  <a:pt x="4291" y="12080"/>
                </a:cubicBezTo>
                <a:cubicBezTo>
                  <a:pt x="4437" y="12170"/>
                  <a:pt x="4589" y="12242"/>
                  <a:pt x="4738" y="12328"/>
                </a:cubicBezTo>
                <a:cubicBezTo>
                  <a:pt x="4879" y="12409"/>
                  <a:pt x="5012" y="12459"/>
                  <a:pt x="5159" y="12526"/>
                </a:cubicBezTo>
                <a:cubicBezTo>
                  <a:pt x="5354" y="12615"/>
                  <a:pt x="5531" y="12678"/>
                  <a:pt x="5730" y="12750"/>
                </a:cubicBezTo>
                <a:cubicBezTo>
                  <a:pt x="5941" y="12826"/>
                  <a:pt x="6130" y="12877"/>
                  <a:pt x="6350" y="12923"/>
                </a:cubicBezTo>
                <a:cubicBezTo>
                  <a:pt x="6610" y="12977"/>
                  <a:pt x="6783" y="12951"/>
                  <a:pt x="7045" y="12923"/>
                </a:cubicBezTo>
                <a:cubicBezTo>
                  <a:pt x="7287" y="12898"/>
                  <a:pt x="7515" y="12845"/>
                  <a:pt x="7739" y="12750"/>
                </a:cubicBezTo>
                <a:cubicBezTo>
                  <a:pt x="7862" y="12698"/>
                  <a:pt x="8033" y="12607"/>
                  <a:pt x="8136" y="12526"/>
                </a:cubicBezTo>
                <a:cubicBezTo>
                  <a:pt x="8247" y="12438"/>
                  <a:pt x="8336" y="12327"/>
                  <a:pt x="8434" y="12229"/>
                </a:cubicBezTo>
                <a:cubicBezTo>
                  <a:pt x="8564" y="12099"/>
                  <a:pt x="8645" y="11982"/>
                  <a:pt x="8756" y="11832"/>
                </a:cubicBezTo>
                <a:cubicBezTo>
                  <a:pt x="8826" y="11738"/>
                  <a:pt x="8890" y="11652"/>
                  <a:pt x="8954" y="11559"/>
                </a:cubicBezTo>
                <a:cubicBezTo>
                  <a:pt x="9031" y="11447"/>
                  <a:pt x="9056" y="11361"/>
                  <a:pt x="9103" y="11237"/>
                </a:cubicBezTo>
                <a:cubicBezTo>
                  <a:pt x="9152" y="11106"/>
                  <a:pt x="9173" y="11003"/>
                  <a:pt x="9203" y="10864"/>
                </a:cubicBezTo>
                <a:cubicBezTo>
                  <a:pt x="9261" y="10598"/>
                  <a:pt x="9266" y="10333"/>
                  <a:pt x="9227" y="10071"/>
                </a:cubicBezTo>
                <a:cubicBezTo>
                  <a:pt x="9206" y="9929"/>
                  <a:pt x="9175" y="9790"/>
                  <a:pt x="9153" y="9649"/>
                </a:cubicBezTo>
                <a:cubicBezTo>
                  <a:pt x="9113" y="9395"/>
                  <a:pt x="9047" y="9185"/>
                  <a:pt x="8930" y="8954"/>
                </a:cubicBezTo>
                <a:cubicBezTo>
                  <a:pt x="8867" y="8829"/>
                  <a:pt x="8803" y="8703"/>
                  <a:pt x="8731" y="8582"/>
                </a:cubicBezTo>
                <a:cubicBezTo>
                  <a:pt x="8666" y="8472"/>
                  <a:pt x="8591" y="8335"/>
                  <a:pt x="8508" y="8235"/>
                </a:cubicBezTo>
                <a:cubicBezTo>
                  <a:pt x="8424" y="8135"/>
                  <a:pt x="8306" y="8034"/>
                  <a:pt x="8210" y="7938"/>
                </a:cubicBezTo>
                <a:cubicBezTo>
                  <a:pt x="8129" y="7857"/>
                  <a:pt x="8034" y="7765"/>
                  <a:pt x="7938" y="7689"/>
                </a:cubicBezTo>
                <a:cubicBezTo>
                  <a:pt x="7854" y="7622"/>
                  <a:pt x="7738" y="7549"/>
                  <a:pt x="7640" y="7491"/>
                </a:cubicBezTo>
                <a:cubicBezTo>
                  <a:pt x="7563" y="7446"/>
                  <a:pt x="7468" y="7373"/>
                  <a:pt x="7392" y="7342"/>
                </a:cubicBezTo>
                <a:cubicBezTo>
                  <a:pt x="7276" y="7295"/>
                  <a:pt x="7167" y="7290"/>
                  <a:pt x="7045" y="7268"/>
                </a:cubicBezTo>
                <a:cubicBezTo>
                  <a:pt x="6947" y="7250"/>
                  <a:pt x="6849" y="7225"/>
                  <a:pt x="6747" y="7218"/>
                </a:cubicBezTo>
                <a:cubicBezTo>
                  <a:pt x="6635" y="7211"/>
                  <a:pt x="6527" y="7248"/>
                  <a:pt x="6424" y="7243"/>
                </a:cubicBezTo>
                <a:cubicBezTo>
                  <a:pt x="6379" y="7241"/>
                  <a:pt x="6325" y="7221"/>
                  <a:pt x="6276" y="7218"/>
                </a:cubicBezTo>
              </a:path>
              <a:path w="6252" h="5805">
                <a:moveTo>
                  <a:pt x="6226" y="7218"/>
                </a:moveTo>
                <a:cubicBezTo>
                  <a:pt x="6157" y="7309"/>
                  <a:pt x="6147" y="7327"/>
                  <a:pt x="6127" y="7441"/>
                </a:cubicBezTo>
                <a:cubicBezTo>
                  <a:pt x="6109" y="7544"/>
                  <a:pt x="6104" y="7632"/>
                  <a:pt x="6102" y="7739"/>
                </a:cubicBezTo>
                <a:cubicBezTo>
                  <a:pt x="6086" y="8489"/>
                  <a:pt x="5987" y="9335"/>
                  <a:pt x="6077" y="10071"/>
                </a:cubicBezTo>
                <a:cubicBezTo>
                  <a:pt x="6097" y="10233"/>
                  <a:pt x="6089" y="10357"/>
                  <a:pt x="6077" y="10517"/>
                </a:cubicBezTo>
                <a:cubicBezTo>
                  <a:pt x="6065" y="10677"/>
                  <a:pt x="6098" y="10829"/>
                  <a:pt x="6102" y="10988"/>
                </a:cubicBezTo>
                <a:cubicBezTo>
                  <a:pt x="6118" y="11623"/>
                  <a:pt x="6018" y="12334"/>
                  <a:pt x="6127" y="12948"/>
                </a:cubicBezTo>
              </a:path>
              <a:path w="6252" h="5805">
                <a:moveTo>
                  <a:pt x="3051" y="9847"/>
                </a:moveTo>
                <a:cubicBezTo>
                  <a:pt x="3151" y="9851"/>
                  <a:pt x="3257" y="9867"/>
                  <a:pt x="3349" y="9872"/>
                </a:cubicBezTo>
                <a:cubicBezTo>
                  <a:pt x="3488" y="9880"/>
                  <a:pt x="3639" y="9890"/>
                  <a:pt x="3770" y="9897"/>
                </a:cubicBezTo>
                <a:cubicBezTo>
                  <a:pt x="3898" y="9903"/>
                  <a:pt x="4016" y="9907"/>
                  <a:pt x="4142" y="9922"/>
                </a:cubicBezTo>
                <a:cubicBezTo>
                  <a:pt x="4307" y="9942"/>
                  <a:pt x="4472" y="9974"/>
                  <a:pt x="4638" y="9996"/>
                </a:cubicBezTo>
                <a:cubicBezTo>
                  <a:pt x="4782" y="10015"/>
                  <a:pt x="4940" y="10038"/>
                  <a:pt x="5085" y="10046"/>
                </a:cubicBezTo>
                <a:cubicBezTo>
                  <a:pt x="5234" y="10055"/>
                  <a:pt x="5383" y="10050"/>
                  <a:pt x="5531" y="10071"/>
                </a:cubicBezTo>
                <a:cubicBezTo>
                  <a:pt x="5741" y="10101"/>
                  <a:pt x="5941" y="10132"/>
                  <a:pt x="6152" y="10170"/>
                </a:cubicBezTo>
                <a:cubicBezTo>
                  <a:pt x="6335" y="10203"/>
                  <a:pt x="6515" y="10220"/>
                  <a:pt x="6697" y="10244"/>
                </a:cubicBezTo>
                <a:cubicBezTo>
                  <a:pt x="6926" y="10274"/>
                  <a:pt x="7140" y="10360"/>
                  <a:pt x="7367" y="10393"/>
                </a:cubicBezTo>
                <a:cubicBezTo>
                  <a:pt x="7510" y="10414"/>
                  <a:pt x="7669" y="10434"/>
                  <a:pt x="7813" y="10443"/>
                </a:cubicBezTo>
                <a:cubicBezTo>
                  <a:pt x="7972" y="10453"/>
                  <a:pt x="8127" y="10482"/>
                  <a:pt x="8285" y="10492"/>
                </a:cubicBezTo>
                <a:cubicBezTo>
                  <a:pt x="8434" y="10501"/>
                  <a:pt x="8583" y="10499"/>
                  <a:pt x="8731" y="10517"/>
                </a:cubicBezTo>
                <a:cubicBezTo>
                  <a:pt x="8847" y="10531"/>
                  <a:pt x="8965" y="10549"/>
                  <a:pt x="9079" y="10567"/>
                </a:cubicBezTo>
                <a:cubicBezTo>
                  <a:pt x="9147" y="10578"/>
                  <a:pt x="9207" y="10584"/>
                  <a:pt x="9277" y="10592"/>
                </a:cubicBezTo>
                <a:cubicBezTo>
                  <a:pt x="9299" y="10614"/>
                  <a:pt x="9308" y="10625"/>
                  <a:pt x="9302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1" name="Ink 4"/>
          <p:cNvSpPr/>
          <p:nvPr/>
        </p:nvSpPr>
        <p:spPr>
          <a:xfrm>
            <a:off x="2527200" y="2973240"/>
            <a:ext cx="347760" cy="312840"/>
          </a:xfrm>
          <a:custGeom>
            <a:avLst/>
            <a:gdLst/>
            <a:ahLst/>
            <a:rect l="l" t="t" r="r" b="b"/>
            <a:pathLst>
              <a:path w="968" h="869">
                <a:moveTo>
                  <a:pt x="7417" y="8260"/>
                </a:moveTo>
                <a:cubicBezTo>
                  <a:pt x="7410" y="8363"/>
                  <a:pt x="7392" y="8454"/>
                  <a:pt x="7392" y="8558"/>
                </a:cubicBezTo>
                <a:cubicBezTo>
                  <a:pt x="7392" y="8723"/>
                  <a:pt x="7392" y="8889"/>
                  <a:pt x="7392" y="9054"/>
                </a:cubicBezTo>
              </a:path>
              <a:path w="968" h="869">
                <a:moveTo>
                  <a:pt x="7020" y="9079"/>
                </a:moveTo>
                <a:cubicBezTo>
                  <a:pt x="7094" y="9099"/>
                  <a:pt x="7173" y="9084"/>
                  <a:pt x="7243" y="9103"/>
                </a:cubicBezTo>
                <a:cubicBezTo>
                  <a:pt x="7319" y="9124"/>
                  <a:pt x="7408" y="9144"/>
                  <a:pt x="7491" y="9128"/>
                </a:cubicBezTo>
                <a:cubicBezTo>
                  <a:pt x="7581" y="9111"/>
                  <a:pt x="7646" y="9103"/>
                  <a:pt x="7739" y="9103"/>
                </a:cubicBezTo>
                <a:cubicBezTo>
                  <a:pt x="7802" y="9103"/>
                  <a:pt x="7843" y="9079"/>
                  <a:pt x="7913" y="9079"/>
                </a:cubicBezTo>
                <a:cubicBezTo>
                  <a:pt x="7957" y="9079"/>
                  <a:pt x="7971" y="9082"/>
                  <a:pt x="7987" y="9054"/>
                </a:cubicBezTo>
              </a:path>
              <a:path w="968" h="869">
                <a:moveTo>
                  <a:pt x="7020" y="8260"/>
                </a:moveTo>
                <a:cubicBezTo>
                  <a:pt x="7229" y="8260"/>
                  <a:pt x="7436" y="8263"/>
                  <a:pt x="7640" y="8285"/>
                </a:cubicBezTo>
                <a:cubicBezTo>
                  <a:pt x="7741" y="8296"/>
                  <a:pt x="7834" y="8310"/>
                  <a:pt x="7938" y="8310"/>
                </a:cubicBezTo>
                <a:cubicBezTo>
                  <a:pt x="7954" y="8310"/>
                  <a:pt x="7971" y="8310"/>
                  <a:pt x="7987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2" name="Ink 5"/>
          <p:cNvSpPr/>
          <p:nvPr/>
        </p:nvSpPr>
        <p:spPr>
          <a:xfrm>
            <a:off x="2062080" y="1946160"/>
            <a:ext cx="349200" cy="581040"/>
          </a:xfrm>
          <a:custGeom>
            <a:avLst/>
            <a:gdLst/>
            <a:ahLst/>
            <a:rect l="l" t="t" r="r" b="b"/>
            <a:pathLst>
              <a:path w="968" h="1614">
                <a:moveTo>
                  <a:pt x="6077" y="6573"/>
                </a:moveTo>
                <a:cubicBezTo>
                  <a:pt x="6121" y="6595"/>
                  <a:pt x="6133" y="6598"/>
                  <a:pt x="6152" y="6623"/>
                </a:cubicBezTo>
              </a:path>
              <a:path w="968" h="1614">
                <a:moveTo>
                  <a:pt x="6176" y="6598"/>
                </a:moveTo>
                <a:cubicBezTo>
                  <a:pt x="6131" y="6551"/>
                  <a:pt x="6118" y="6527"/>
                  <a:pt x="6052" y="6524"/>
                </a:cubicBezTo>
                <a:cubicBezTo>
                  <a:pt x="5969" y="6520"/>
                  <a:pt x="5917" y="6517"/>
                  <a:pt x="5854" y="6573"/>
                </a:cubicBezTo>
                <a:cubicBezTo>
                  <a:pt x="5816" y="6607"/>
                  <a:pt x="5766" y="6640"/>
                  <a:pt x="5779" y="6697"/>
                </a:cubicBezTo>
                <a:cubicBezTo>
                  <a:pt x="5795" y="6767"/>
                  <a:pt x="5890" y="6797"/>
                  <a:pt x="5953" y="6772"/>
                </a:cubicBezTo>
                <a:cubicBezTo>
                  <a:pt x="5983" y="6760"/>
                  <a:pt x="6064" y="6742"/>
                  <a:pt x="6077" y="6697"/>
                </a:cubicBezTo>
                <a:cubicBezTo>
                  <a:pt x="6077" y="6681"/>
                  <a:pt x="6077" y="6664"/>
                  <a:pt x="6077" y="6648"/>
                </a:cubicBezTo>
                <a:cubicBezTo>
                  <a:pt x="6041" y="6707"/>
                  <a:pt x="6052" y="6772"/>
                  <a:pt x="6052" y="6846"/>
                </a:cubicBezTo>
                <a:cubicBezTo>
                  <a:pt x="6052" y="6913"/>
                  <a:pt x="6033" y="6972"/>
                  <a:pt x="6052" y="7020"/>
                </a:cubicBezTo>
              </a:path>
              <a:path w="968" h="1614">
                <a:moveTo>
                  <a:pt x="6300" y="6672"/>
                </a:moveTo>
                <a:cubicBezTo>
                  <a:pt x="6274" y="6745"/>
                  <a:pt x="6258" y="6841"/>
                  <a:pt x="6276" y="6921"/>
                </a:cubicBezTo>
                <a:cubicBezTo>
                  <a:pt x="6297" y="7016"/>
                  <a:pt x="6379" y="7010"/>
                  <a:pt x="6449" y="6970"/>
                </a:cubicBezTo>
                <a:cubicBezTo>
                  <a:pt x="6509" y="6935"/>
                  <a:pt x="6514" y="6830"/>
                  <a:pt x="6499" y="6772"/>
                </a:cubicBezTo>
                <a:cubicBezTo>
                  <a:pt x="6485" y="6720"/>
                  <a:pt x="6446" y="6684"/>
                  <a:pt x="6400" y="6672"/>
                </a:cubicBezTo>
              </a:path>
              <a:path w="968" h="1614">
                <a:moveTo>
                  <a:pt x="6548" y="6474"/>
                </a:moveTo>
                <a:cubicBezTo>
                  <a:pt x="6521" y="6520"/>
                  <a:pt x="6524" y="6541"/>
                  <a:pt x="6524" y="6598"/>
                </a:cubicBezTo>
              </a:path>
              <a:path w="968" h="1614">
                <a:moveTo>
                  <a:pt x="6598" y="6623"/>
                </a:moveTo>
                <a:cubicBezTo>
                  <a:pt x="6643" y="6591"/>
                  <a:pt x="6735" y="6550"/>
                  <a:pt x="6697" y="6474"/>
                </a:cubicBezTo>
                <a:cubicBezTo>
                  <a:pt x="6677" y="6433"/>
                  <a:pt x="6634" y="6449"/>
                  <a:pt x="6598" y="6449"/>
                </a:cubicBezTo>
              </a:path>
              <a:path w="968" h="1614">
                <a:moveTo>
                  <a:pt x="5730" y="5482"/>
                </a:moveTo>
                <a:cubicBezTo>
                  <a:pt x="5785" y="5449"/>
                  <a:pt x="5836" y="5457"/>
                  <a:pt x="5904" y="5457"/>
                </a:cubicBezTo>
                <a:cubicBezTo>
                  <a:pt x="5978" y="5457"/>
                  <a:pt x="6053" y="5457"/>
                  <a:pt x="6127" y="5457"/>
                </a:cubicBezTo>
              </a:path>
              <a:path w="968" h="1614">
                <a:moveTo>
                  <a:pt x="5854" y="5407"/>
                </a:moveTo>
                <a:cubicBezTo>
                  <a:pt x="5854" y="5548"/>
                  <a:pt x="5841" y="5704"/>
                  <a:pt x="5879" y="5829"/>
                </a:cubicBezTo>
                <a:cubicBezTo>
                  <a:pt x="5879" y="5837"/>
                  <a:pt x="5879" y="5846"/>
                  <a:pt x="5879" y="5854"/>
                </a:cubicBezTo>
              </a:path>
              <a:path w="968" h="1614">
                <a:moveTo>
                  <a:pt x="5978" y="5507"/>
                </a:moveTo>
                <a:cubicBezTo>
                  <a:pt x="5986" y="5582"/>
                  <a:pt x="6024" y="5636"/>
                  <a:pt x="6028" y="5705"/>
                </a:cubicBezTo>
                <a:cubicBezTo>
                  <a:pt x="6031" y="5762"/>
                  <a:pt x="6049" y="5807"/>
                  <a:pt x="6077" y="5854"/>
                </a:cubicBezTo>
              </a:path>
              <a:path w="968" h="1614">
                <a:moveTo>
                  <a:pt x="5755" y="5928"/>
                </a:moveTo>
                <a:cubicBezTo>
                  <a:pt x="5885" y="5928"/>
                  <a:pt x="6002" y="5910"/>
                  <a:pt x="6127" y="5904"/>
                </a:cubicBezTo>
                <a:cubicBezTo>
                  <a:pt x="6178" y="5904"/>
                  <a:pt x="6197" y="5903"/>
                  <a:pt x="6226" y="5879"/>
                </a:cubicBezTo>
              </a:path>
              <a:path w="968" h="1614">
                <a:moveTo>
                  <a:pt x="5904" y="6077"/>
                </a:moveTo>
                <a:cubicBezTo>
                  <a:pt x="5951" y="6045"/>
                  <a:pt x="6027" y="6013"/>
                  <a:pt x="6077" y="6003"/>
                </a:cubicBezTo>
                <a:cubicBezTo>
                  <a:pt x="6133" y="5992"/>
                  <a:pt x="6161" y="6021"/>
                  <a:pt x="6201" y="6052"/>
                </a:cubicBezTo>
                <a:cubicBezTo>
                  <a:pt x="6160" y="6103"/>
                  <a:pt x="6134" y="6161"/>
                  <a:pt x="6077" y="6201"/>
                </a:cubicBezTo>
                <a:cubicBezTo>
                  <a:pt x="6030" y="6234"/>
                  <a:pt x="5995" y="6260"/>
                  <a:pt x="5953" y="6300"/>
                </a:cubicBezTo>
                <a:cubicBezTo>
                  <a:pt x="6037" y="6332"/>
                  <a:pt x="6137" y="6321"/>
                  <a:pt x="6226" y="6300"/>
                </a:cubicBezTo>
                <a:cubicBezTo>
                  <a:pt x="6281" y="6287"/>
                  <a:pt x="6373" y="6233"/>
                  <a:pt x="6350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3" name="Ink 6"/>
          <p:cNvSpPr/>
          <p:nvPr/>
        </p:nvSpPr>
        <p:spPr>
          <a:xfrm>
            <a:off x="3473280" y="3714840"/>
            <a:ext cx="15264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9748" y="10368"/>
                </a:moveTo>
                <a:cubicBezTo>
                  <a:pt x="9717" y="10399"/>
                  <a:pt x="9660" y="10453"/>
                  <a:pt x="9649" y="10492"/>
                </a:cubicBezTo>
                <a:cubicBezTo>
                  <a:pt x="9629" y="10567"/>
                  <a:pt x="9665" y="10609"/>
                  <a:pt x="9699" y="10666"/>
                </a:cubicBezTo>
                <a:cubicBezTo>
                  <a:pt x="9739" y="10734"/>
                  <a:pt x="9770" y="10760"/>
                  <a:pt x="9847" y="10790"/>
                </a:cubicBezTo>
                <a:cubicBezTo>
                  <a:pt x="9918" y="10818"/>
                  <a:pt x="9996" y="10809"/>
                  <a:pt x="10046" y="10740"/>
                </a:cubicBezTo>
                <a:cubicBezTo>
                  <a:pt x="10088" y="10682"/>
                  <a:pt x="10066" y="10602"/>
                  <a:pt x="10046" y="10542"/>
                </a:cubicBezTo>
                <a:cubicBezTo>
                  <a:pt x="10028" y="10489"/>
                  <a:pt x="9955" y="10409"/>
                  <a:pt x="9922" y="10368"/>
                </a:cubicBezTo>
                <a:cubicBezTo>
                  <a:pt x="9878" y="10314"/>
                  <a:pt x="9835" y="10325"/>
                  <a:pt x="9773" y="103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4" name="Ink 7"/>
          <p:cNvSpPr/>
          <p:nvPr/>
        </p:nvSpPr>
        <p:spPr>
          <a:xfrm>
            <a:off x="3741840" y="3705120"/>
            <a:ext cx="554040" cy="268560"/>
          </a:xfrm>
          <a:custGeom>
            <a:avLst/>
            <a:gdLst/>
            <a:ahLst/>
            <a:rect l="l" t="t" r="r" b="b"/>
            <a:pathLst>
              <a:path w="1539" h="745">
                <a:moveTo>
                  <a:pt x="10443" y="10815"/>
                </a:moveTo>
                <a:cubicBezTo>
                  <a:pt x="10436" y="10862"/>
                  <a:pt x="10436" y="10943"/>
                  <a:pt x="10418" y="10988"/>
                </a:cubicBezTo>
                <a:cubicBezTo>
                  <a:pt x="10393" y="11013"/>
                  <a:pt x="10385" y="11021"/>
                  <a:pt x="10418" y="11038"/>
                </a:cubicBezTo>
              </a:path>
              <a:path w="1539" h="745">
                <a:moveTo>
                  <a:pt x="10567" y="10368"/>
                </a:moveTo>
                <a:cubicBezTo>
                  <a:pt x="10679" y="10296"/>
                  <a:pt x="10701" y="10266"/>
                  <a:pt x="10815" y="10344"/>
                </a:cubicBezTo>
                <a:cubicBezTo>
                  <a:pt x="10855" y="10371"/>
                  <a:pt x="10861" y="10442"/>
                  <a:pt x="10840" y="10468"/>
                </a:cubicBezTo>
                <a:cubicBezTo>
                  <a:pt x="10804" y="10514"/>
                  <a:pt x="10736" y="10494"/>
                  <a:pt x="10691" y="10517"/>
                </a:cubicBezTo>
                <a:cubicBezTo>
                  <a:pt x="10683" y="10525"/>
                  <a:pt x="10674" y="10534"/>
                  <a:pt x="10666" y="10542"/>
                </a:cubicBezTo>
                <a:cubicBezTo>
                  <a:pt x="10690" y="10624"/>
                  <a:pt x="10719" y="10603"/>
                  <a:pt x="10790" y="10641"/>
                </a:cubicBezTo>
                <a:cubicBezTo>
                  <a:pt x="10847" y="10672"/>
                  <a:pt x="10871" y="10683"/>
                  <a:pt x="10889" y="10716"/>
                </a:cubicBezTo>
                <a:cubicBezTo>
                  <a:pt x="10918" y="10768"/>
                  <a:pt x="10907" y="10895"/>
                  <a:pt x="10815" y="10889"/>
                </a:cubicBezTo>
                <a:cubicBezTo>
                  <a:pt x="10782" y="10887"/>
                  <a:pt x="10689" y="10858"/>
                  <a:pt x="10666" y="10840"/>
                </a:cubicBezTo>
                <a:cubicBezTo>
                  <a:pt x="10610" y="10796"/>
                  <a:pt x="10624" y="10790"/>
                  <a:pt x="10616" y="10716"/>
                </a:cubicBezTo>
              </a:path>
              <a:path w="1539" h="745">
                <a:moveTo>
                  <a:pt x="11038" y="10344"/>
                </a:moveTo>
                <a:cubicBezTo>
                  <a:pt x="11031" y="10437"/>
                  <a:pt x="10964" y="10577"/>
                  <a:pt x="10988" y="10666"/>
                </a:cubicBezTo>
                <a:cubicBezTo>
                  <a:pt x="10994" y="10688"/>
                  <a:pt x="11060" y="10826"/>
                  <a:pt x="11088" y="10840"/>
                </a:cubicBezTo>
                <a:cubicBezTo>
                  <a:pt x="11133" y="10863"/>
                  <a:pt x="11197" y="10873"/>
                  <a:pt x="11237" y="10840"/>
                </a:cubicBezTo>
                <a:cubicBezTo>
                  <a:pt x="11272" y="10812"/>
                  <a:pt x="11328" y="10767"/>
                  <a:pt x="11311" y="10716"/>
                </a:cubicBezTo>
                <a:cubicBezTo>
                  <a:pt x="11287" y="10644"/>
                  <a:pt x="11183" y="10712"/>
                  <a:pt x="11187" y="10765"/>
                </a:cubicBezTo>
                <a:cubicBezTo>
                  <a:pt x="11210" y="10788"/>
                  <a:pt x="11218" y="10792"/>
                  <a:pt x="11212" y="10815"/>
                </a:cubicBezTo>
              </a:path>
              <a:path w="1539" h="745">
                <a:moveTo>
                  <a:pt x="11485" y="10393"/>
                </a:moveTo>
                <a:cubicBezTo>
                  <a:pt x="11452" y="10426"/>
                  <a:pt x="11400" y="10474"/>
                  <a:pt x="11385" y="10517"/>
                </a:cubicBezTo>
                <a:cubicBezTo>
                  <a:pt x="11352" y="10611"/>
                  <a:pt x="11322" y="10675"/>
                  <a:pt x="11361" y="10765"/>
                </a:cubicBezTo>
                <a:cubicBezTo>
                  <a:pt x="11393" y="10837"/>
                  <a:pt x="11433" y="10885"/>
                  <a:pt x="11509" y="10889"/>
                </a:cubicBezTo>
                <a:cubicBezTo>
                  <a:pt x="11552" y="10892"/>
                  <a:pt x="11615" y="10862"/>
                  <a:pt x="11633" y="10815"/>
                </a:cubicBezTo>
                <a:cubicBezTo>
                  <a:pt x="11669" y="10720"/>
                  <a:pt x="11666" y="10650"/>
                  <a:pt x="11609" y="10567"/>
                </a:cubicBezTo>
                <a:cubicBezTo>
                  <a:pt x="11570" y="10510"/>
                  <a:pt x="11523" y="10500"/>
                  <a:pt x="11460" y="10492"/>
                </a:cubicBezTo>
              </a:path>
              <a:path w="1539" h="745">
                <a:moveTo>
                  <a:pt x="11633" y="10319"/>
                </a:moveTo>
                <a:cubicBezTo>
                  <a:pt x="11647" y="10454"/>
                  <a:pt x="11633" y="10509"/>
                  <a:pt x="11782" y="10542"/>
                </a:cubicBezTo>
                <a:cubicBezTo>
                  <a:pt x="11866" y="10561"/>
                  <a:pt x="11914" y="10502"/>
                  <a:pt x="11931" y="10443"/>
                </a:cubicBezTo>
                <a:cubicBezTo>
                  <a:pt x="11873" y="10394"/>
                  <a:pt x="11790" y="10308"/>
                  <a:pt x="11708" y="10294"/>
                </a:cubicBezTo>
                <a:cubicBezTo>
                  <a:pt x="11683" y="10294"/>
                  <a:pt x="11658" y="10294"/>
                  <a:pt x="11633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5" name="Ink 8"/>
          <p:cNvSpPr/>
          <p:nvPr/>
        </p:nvSpPr>
        <p:spPr>
          <a:xfrm>
            <a:off x="401760" y="3463920"/>
            <a:ext cx="669960" cy="314280"/>
          </a:xfrm>
          <a:custGeom>
            <a:avLst/>
            <a:gdLst/>
            <a:ahLst/>
            <a:rect l="l" t="t" r="r" b="b"/>
            <a:pathLst>
              <a:path w="1862" h="869">
                <a:moveTo>
                  <a:pt x="2108" y="9748"/>
                </a:moveTo>
                <a:cubicBezTo>
                  <a:pt x="2116" y="9693"/>
                  <a:pt x="2125" y="9679"/>
                  <a:pt x="2133" y="9624"/>
                </a:cubicBezTo>
                <a:cubicBezTo>
                  <a:pt x="2123" y="9693"/>
                  <a:pt x="2108" y="9745"/>
                  <a:pt x="2108" y="9823"/>
                </a:cubicBezTo>
                <a:cubicBezTo>
                  <a:pt x="2108" y="9878"/>
                  <a:pt x="2087" y="10270"/>
                  <a:pt x="2133" y="10269"/>
                </a:cubicBezTo>
                <a:cubicBezTo>
                  <a:pt x="2133" y="10261"/>
                  <a:pt x="2133" y="10252"/>
                  <a:pt x="2133" y="10244"/>
                </a:cubicBezTo>
              </a:path>
              <a:path w="1862" h="869">
                <a:moveTo>
                  <a:pt x="2580" y="9773"/>
                </a:moveTo>
                <a:cubicBezTo>
                  <a:pt x="2623" y="9751"/>
                  <a:pt x="2635" y="9747"/>
                  <a:pt x="2654" y="9723"/>
                </a:cubicBezTo>
                <a:cubicBezTo>
                  <a:pt x="2624" y="9712"/>
                  <a:pt x="2525" y="9705"/>
                  <a:pt x="2480" y="9723"/>
                </a:cubicBezTo>
                <a:cubicBezTo>
                  <a:pt x="2448" y="9735"/>
                  <a:pt x="2406" y="9798"/>
                  <a:pt x="2381" y="9823"/>
                </a:cubicBezTo>
                <a:cubicBezTo>
                  <a:pt x="2401" y="9890"/>
                  <a:pt x="2443" y="9901"/>
                  <a:pt x="2480" y="9971"/>
                </a:cubicBezTo>
                <a:cubicBezTo>
                  <a:pt x="2514" y="10035"/>
                  <a:pt x="2567" y="10083"/>
                  <a:pt x="2604" y="10145"/>
                </a:cubicBezTo>
                <a:cubicBezTo>
                  <a:pt x="2650" y="10223"/>
                  <a:pt x="2605" y="10265"/>
                  <a:pt x="2530" y="10269"/>
                </a:cubicBezTo>
                <a:cubicBezTo>
                  <a:pt x="2436" y="10275"/>
                  <a:pt x="2411" y="10230"/>
                  <a:pt x="2406" y="10145"/>
                </a:cubicBezTo>
                <a:cubicBezTo>
                  <a:pt x="2401" y="10063"/>
                  <a:pt x="2463" y="10084"/>
                  <a:pt x="2480" y="10021"/>
                </a:cubicBezTo>
                <a:cubicBezTo>
                  <a:pt x="2498" y="9956"/>
                  <a:pt x="2504" y="9948"/>
                  <a:pt x="2555" y="9897"/>
                </a:cubicBezTo>
                <a:cubicBezTo>
                  <a:pt x="2580" y="9872"/>
                  <a:pt x="2604" y="9847"/>
                  <a:pt x="2629" y="9823"/>
                </a:cubicBezTo>
              </a:path>
              <a:path w="1862" h="869">
                <a:moveTo>
                  <a:pt x="2778" y="9798"/>
                </a:moveTo>
                <a:cubicBezTo>
                  <a:pt x="2720" y="9907"/>
                  <a:pt x="2710" y="9959"/>
                  <a:pt x="2679" y="10071"/>
                </a:cubicBezTo>
                <a:cubicBezTo>
                  <a:pt x="2664" y="10125"/>
                  <a:pt x="2630" y="10227"/>
                  <a:pt x="2704" y="10269"/>
                </a:cubicBezTo>
                <a:cubicBezTo>
                  <a:pt x="2788" y="10317"/>
                  <a:pt x="2864" y="10174"/>
                  <a:pt x="2877" y="10120"/>
                </a:cubicBezTo>
                <a:cubicBezTo>
                  <a:pt x="2891" y="10061"/>
                  <a:pt x="2885" y="9966"/>
                  <a:pt x="2853" y="9922"/>
                </a:cubicBezTo>
                <a:cubicBezTo>
                  <a:pt x="2845" y="9914"/>
                  <a:pt x="2836" y="9905"/>
                  <a:pt x="2828" y="9897"/>
                </a:cubicBezTo>
              </a:path>
              <a:path w="1862" h="869">
                <a:moveTo>
                  <a:pt x="2902" y="9674"/>
                </a:moveTo>
                <a:cubicBezTo>
                  <a:pt x="2883" y="9770"/>
                  <a:pt x="2878" y="9784"/>
                  <a:pt x="2977" y="9798"/>
                </a:cubicBezTo>
                <a:cubicBezTo>
                  <a:pt x="2968" y="9736"/>
                  <a:pt x="2960" y="9731"/>
                  <a:pt x="2927" y="9674"/>
                </a:cubicBezTo>
              </a:path>
              <a:path w="1862" h="869">
                <a:moveTo>
                  <a:pt x="1116" y="9723"/>
                </a:moveTo>
                <a:cubicBezTo>
                  <a:pt x="1183" y="9716"/>
                  <a:pt x="1274" y="9717"/>
                  <a:pt x="1339" y="9699"/>
                </a:cubicBezTo>
                <a:cubicBezTo>
                  <a:pt x="1356" y="9691"/>
                  <a:pt x="1372" y="9682"/>
                  <a:pt x="1389" y="9674"/>
                </a:cubicBezTo>
              </a:path>
              <a:path w="1862" h="869">
                <a:moveTo>
                  <a:pt x="1191" y="9773"/>
                </a:moveTo>
                <a:cubicBezTo>
                  <a:pt x="1168" y="9877"/>
                  <a:pt x="1141" y="9966"/>
                  <a:pt x="1141" y="10071"/>
                </a:cubicBezTo>
                <a:cubicBezTo>
                  <a:pt x="1141" y="10154"/>
                  <a:pt x="1141" y="10170"/>
                  <a:pt x="1141" y="10220"/>
                </a:cubicBezTo>
              </a:path>
              <a:path w="1862" h="869">
                <a:moveTo>
                  <a:pt x="1339" y="9723"/>
                </a:moveTo>
                <a:cubicBezTo>
                  <a:pt x="1364" y="9863"/>
                  <a:pt x="1345" y="9876"/>
                  <a:pt x="1339" y="9996"/>
                </a:cubicBezTo>
                <a:cubicBezTo>
                  <a:pt x="1336" y="10060"/>
                  <a:pt x="1357" y="10165"/>
                  <a:pt x="1389" y="10220"/>
                </a:cubicBezTo>
                <a:cubicBezTo>
                  <a:pt x="1397" y="10228"/>
                  <a:pt x="1406" y="10236"/>
                  <a:pt x="1414" y="10244"/>
                </a:cubicBezTo>
              </a:path>
              <a:path w="1862" h="869">
                <a:moveTo>
                  <a:pt x="1687" y="10244"/>
                </a:moveTo>
                <a:cubicBezTo>
                  <a:pt x="1680" y="10395"/>
                  <a:pt x="1684" y="10387"/>
                  <a:pt x="1662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6" name="Ink 9"/>
          <p:cNvSpPr/>
          <p:nvPr/>
        </p:nvSpPr>
        <p:spPr>
          <a:xfrm>
            <a:off x="1428840" y="2963880"/>
            <a:ext cx="428400" cy="341280"/>
          </a:xfrm>
          <a:custGeom>
            <a:avLst/>
            <a:gdLst/>
            <a:ahLst/>
            <a:rect l="l" t="t" r="r" b="b"/>
            <a:pathLst>
              <a:path w="1191" h="944">
                <a:moveTo>
                  <a:pt x="4390" y="8310"/>
                </a:moveTo>
                <a:cubicBezTo>
                  <a:pt x="4409" y="8367"/>
                  <a:pt x="4390" y="8456"/>
                  <a:pt x="4390" y="8533"/>
                </a:cubicBezTo>
                <a:cubicBezTo>
                  <a:pt x="4390" y="8619"/>
                  <a:pt x="4354" y="8700"/>
                  <a:pt x="4341" y="8781"/>
                </a:cubicBezTo>
                <a:cubicBezTo>
                  <a:pt x="4330" y="8848"/>
                  <a:pt x="4327" y="8922"/>
                  <a:pt x="4316" y="8979"/>
                </a:cubicBezTo>
                <a:cubicBezTo>
                  <a:pt x="4309" y="9014"/>
                  <a:pt x="4317" y="9174"/>
                  <a:pt x="4341" y="9054"/>
                </a:cubicBezTo>
              </a:path>
              <a:path w="1191" h="944">
                <a:moveTo>
                  <a:pt x="4688" y="8235"/>
                </a:moveTo>
                <a:cubicBezTo>
                  <a:pt x="4669" y="8305"/>
                  <a:pt x="4647" y="8389"/>
                  <a:pt x="4638" y="8458"/>
                </a:cubicBezTo>
                <a:cubicBezTo>
                  <a:pt x="4627" y="8544"/>
                  <a:pt x="4614" y="8616"/>
                  <a:pt x="4614" y="8706"/>
                </a:cubicBezTo>
                <a:cubicBezTo>
                  <a:pt x="4614" y="8843"/>
                  <a:pt x="4617" y="8974"/>
                  <a:pt x="4638" y="9103"/>
                </a:cubicBezTo>
                <a:cubicBezTo>
                  <a:pt x="4638" y="9145"/>
                  <a:pt x="4638" y="9153"/>
                  <a:pt x="4638" y="9178"/>
                </a:cubicBezTo>
              </a:path>
              <a:path w="1191" h="944">
                <a:moveTo>
                  <a:pt x="4018" y="9153"/>
                </a:moveTo>
                <a:cubicBezTo>
                  <a:pt x="4235" y="9153"/>
                  <a:pt x="4451" y="9148"/>
                  <a:pt x="4663" y="9128"/>
                </a:cubicBezTo>
                <a:cubicBezTo>
                  <a:pt x="4780" y="9117"/>
                  <a:pt x="4894" y="9117"/>
                  <a:pt x="5011" y="9103"/>
                </a:cubicBezTo>
                <a:cubicBezTo>
                  <a:pt x="5077" y="9095"/>
                  <a:pt x="5143" y="9095"/>
                  <a:pt x="5110" y="9029"/>
                </a:cubicBezTo>
              </a:path>
              <a:path w="1191" h="944">
                <a:moveTo>
                  <a:pt x="3969" y="8285"/>
                </a:moveTo>
                <a:cubicBezTo>
                  <a:pt x="4065" y="8285"/>
                  <a:pt x="4149" y="8263"/>
                  <a:pt x="4242" y="8260"/>
                </a:cubicBezTo>
                <a:cubicBezTo>
                  <a:pt x="4411" y="8254"/>
                  <a:pt x="4571" y="8250"/>
                  <a:pt x="4738" y="8235"/>
                </a:cubicBezTo>
                <a:cubicBezTo>
                  <a:pt x="4834" y="8226"/>
                  <a:pt x="5134" y="8220"/>
                  <a:pt x="5135" y="82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7" name="Ink 10"/>
          <p:cNvSpPr/>
          <p:nvPr/>
        </p:nvSpPr>
        <p:spPr>
          <a:xfrm>
            <a:off x="1500120" y="3768840"/>
            <a:ext cx="438120" cy="357120"/>
          </a:xfrm>
          <a:custGeom>
            <a:avLst/>
            <a:gdLst/>
            <a:ahLst/>
            <a:rect l="l" t="t" r="r" b="b"/>
            <a:pathLst>
              <a:path w="1217" h="993">
                <a:moveTo>
                  <a:pt x="4341" y="10616"/>
                </a:moveTo>
                <a:cubicBezTo>
                  <a:pt x="4341" y="10690"/>
                  <a:pt x="4319" y="10744"/>
                  <a:pt x="4316" y="10815"/>
                </a:cubicBezTo>
                <a:cubicBezTo>
                  <a:pt x="4314" y="10863"/>
                  <a:pt x="4296" y="11312"/>
                  <a:pt x="4341" y="11311"/>
                </a:cubicBezTo>
                <a:cubicBezTo>
                  <a:pt x="4341" y="11303"/>
                  <a:pt x="4341" y="11294"/>
                  <a:pt x="4341" y="11286"/>
                </a:cubicBezTo>
              </a:path>
              <a:path w="1217" h="993">
                <a:moveTo>
                  <a:pt x="4589" y="10616"/>
                </a:moveTo>
                <a:cubicBezTo>
                  <a:pt x="4589" y="10795"/>
                  <a:pt x="4539" y="11049"/>
                  <a:pt x="4564" y="11212"/>
                </a:cubicBezTo>
                <a:cubicBezTo>
                  <a:pt x="4589" y="11237"/>
                  <a:pt x="4597" y="11245"/>
                  <a:pt x="4614" y="11212"/>
                </a:cubicBezTo>
              </a:path>
              <a:path w="1217" h="993">
                <a:moveTo>
                  <a:pt x="4887" y="10517"/>
                </a:moveTo>
                <a:cubicBezTo>
                  <a:pt x="4887" y="10709"/>
                  <a:pt x="4889" y="10903"/>
                  <a:pt x="4911" y="11088"/>
                </a:cubicBezTo>
                <a:cubicBezTo>
                  <a:pt x="4921" y="11174"/>
                  <a:pt x="4948" y="11253"/>
                  <a:pt x="4961" y="11336"/>
                </a:cubicBezTo>
                <a:cubicBezTo>
                  <a:pt x="4970" y="11390"/>
                  <a:pt x="4978" y="11405"/>
                  <a:pt x="4986" y="11460"/>
                </a:cubicBezTo>
              </a:path>
              <a:path w="1217" h="993">
                <a:moveTo>
                  <a:pt x="4167" y="11237"/>
                </a:moveTo>
                <a:cubicBezTo>
                  <a:pt x="4442" y="11237"/>
                  <a:pt x="4715" y="11242"/>
                  <a:pt x="4986" y="11261"/>
                </a:cubicBezTo>
                <a:cubicBezTo>
                  <a:pt x="5097" y="11269"/>
                  <a:pt x="5252" y="11273"/>
                  <a:pt x="5358" y="11237"/>
                </a:cubicBezTo>
                <a:cubicBezTo>
                  <a:pt x="5366" y="11229"/>
                  <a:pt x="5375" y="11220"/>
                  <a:pt x="5383" y="11212"/>
                </a:cubicBezTo>
              </a:path>
              <a:path w="1217" h="993">
                <a:moveTo>
                  <a:pt x="4266" y="10492"/>
                </a:moveTo>
                <a:cubicBezTo>
                  <a:pt x="4408" y="10470"/>
                  <a:pt x="4568" y="10447"/>
                  <a:pt x="4713" y="10468"/>
                </a:cubicBezTo>
                <a:cubicBezTo>
                  <a:pt x="4840" y="10486"/>
                  <a:pt x="4985" y="10490"/>
                  <a:pt x="5110" y="10517"/>
                </a:cubicBezTo>
                <a:cubicBezTo>
                  <a:pt x="5169" y="10530"/>
                  <a:pt x="5225" y="10548"/>
                  <a:pt x="528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8" name="Ink 11"/>
          <p:cNvSpPr/>
          <p:nvPr/>
        </p:nvSpPr>
        <p:spPr>
          <a:xfrm>
            <a:off x="2589120" y="3938760"/>
            <a:ext cx="260280" cy="357120"/>
          </a:xfrm>
          <a:custGeom>
            <a:avLst/>
            <a:gdLst/>
            <a:ahLst/>
            <a:rect l="l" t="t" r="r" b="b"/>
            <a:pathLst>
              <a:path w="721" h="993">
                <a:moveTo>
                  <a:pt x="7218" y="11063"/>
                </a:moveTo>
                <a:cubicBezTo>
                  <a:pt x="7218" y="11313"/>
                  <a:pt x="7159" y="11647"/>
                  <a:pt x="7193" y="11881"/>
                </a:cubicBezTo>
                <a:cubicBezTo>
                  <a:pt x="7216" y="11904"/>
                  <a:pt x="7224" y="11908"/>
                  <a:pt x="7218" y="11931"/>
                </a:cubicBezTo>
              </a:path>
              <a:path w="721" h="993">
                <a:moveTo>
                  <a:pt x="7417" y="11261"/>
                </a:moveTo>
                <a:cubicBezTo>
                  <a:pt x="7471" y="11339"/>
                  <a:pt x="7505" y="11389"/>
                  <a:pt x="7516" y="11485"/>
                </a:cubicBezTo>
                <a:cubicBezTo>
                  <a:pt x="7529" y="11593"/>
                  <a:pt x="7489" y="11707"/>
                  <a:pt x="7541" y="11807"/>
                </a:cubicBezTo>
                <a:cubicBezTo>
                  <a:pt x="7549" y="11815"/>
                  <a:pt x="7557" y="11824"/>
                  <a:pt x="7565" y="11832"/>
                </a:cubicBezTo>
                <a:cubicBezTo>
                  <a:pt x="7590" y="11766"/>
                  <a:pt x="7593" y="11697"/>
                  <a:pt x="7615" y="11633"/>
                </a:cubicBezTo>
                <a:cubicBezTo>
                  <a:pt x="7651" y="11526"/>
                  <a:pt x="7695" y="11415"/>
                  <a:pt x="7739" y="11311"/>
                </a:cubicBezTo>
                <a:cubicBezTo>
                  <a:pt x="7767" y="11245"/>
                  <a:pt x="7786" y="11181"/>
                  <a:pt x="7813" y="11112"/>
                </a:cubicBezTo>
                <a:cubicBezTo>
                  <a:pt x="7842" y="11038"/>
                  <a:pt x="7892" y="11026"/>
                  <a:pt x="7913" y="10964"/>
                </a:cubicBezTo>
                <a:cubicBezTo>
                  <a:pt x="7913" y="10956"/>
                  <a:pt x="7913" y="10947"/>
                  <a:pt x="7913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9" name="Ink 12"/>
          <p:cNvSpPr/>
          <p:nvPr/>
        </p:nvSpPr>
        <p:spPr>
          <a:xfrm>
            <a:off x="2160720" y="4848120"/>
            <a:ext cx="455400" cy="938160"/>
          </a:xfrm>
          <a:custGeom>
            <a:avLst/>
            <a:gdLst/>
            <a:ahLst/>
            <a:rect l="l" t="t" r="r" b="b"/>
            <a:pathLst>
              <a:path w="1266" h="2605">
                <a:moveTo>
                  <a:pt x="6003" y="13543"/>
                </a:moveTo>
                <a:cubicBezTo>
                  <a:pt x="6032" y="13617"/>
                  <a:pt x="6046" y="13574"/>
                  <a:pt x="6102" y="13519"/>
                </a:cubicBezTo>
                <a:cubicBezTo>
                  <a:pt x="6147" y="13475"/>
                  <a:pt x="6220" y="13438"/>
                  <a:pt x="6276" y="13494"/>
                </a:cubicBezTo>
                <a:cubicBezTo>
                  <a:pt x="6322" y="13540"/>
                  <a:pt x="6300" y="13660"/>
                  <a:pt x="6300" y="13717"/>
                </a:cubicBezTo>
                <a:cubicBezTo>
                  <a:pt x="6300" y="13832"/>
                  <a:pt x="6273" y="13864"/>
                  <a:pt x="6251" y="13965"/>
                </a:cubicBezTo>
                <a:cubicBezTo>
                  <a:pt x="6226" y="14076"/>
                  <a:pt x="6224" y="14025"/>
                  <a:pt x="6127" y="14064"/>
                </a:cubicBezTo>
                <a:cubicBezTo>
                  <a:pt x="6061" y="14090"/>
                  <a:pt x="6032" y="14067"/>
                  <a:pt x="6028" y="13990"/>
                </a:cubicBezTo>
                <a:cubicBezTo>
                  <a:pt x="6025" y="13934"/>
                  <a:pt x="6026" y="13910"/>
                  <a:pt x="6052" y="13866"/>
                </a:cubicBezTo>
                <a:cubicBezTo>
                  <a:pt x="6137" y="13877"/>
                  <a:pt x="6160" y="13888"/>
                  <a:pt x="6201" y="13965"/>
                </a:cubicBezTo>
                <a:cubicBezTo>
                  <a:pt x="6243" y="14044"/>
                  <a:pt x="6288" y="14075"/>
                  <a:pt x="6350" y="14114"/>
                </a:cubicBezTo>
                <a:cubicBezTo>
                  <a:pt x="6358" y="14122"/>
                  <a:pt x="6367" y="14131"/>
                  <a:pt x="6375" y="14139"/>
                </a:cubicBezTo>
              </a:path>
              <a:path w="1266" h="2605">
                <a:moveTo>
                  <a:pt x="6474" y="13643"/>
                </a:moveTo>
                <a:cubicBezTo>
                  <a:pt x="6532" y="13585"/>
                  <a:pt x="6568" y="13557"/>
                  <a:pt x="6648" y="13543"/>
                </a:cubicBezTo>
                <a:cubicBezTo>
                  <a:pt x="6703" y="13534"/>
                  <a:pt x="6764" y="13527"/>
                  <a:pt x="6796" y="13543"/>
                </a:cubicBezTo>
                <a:cubicBezTo>
                  <a:pt x="6796" y="13633"/>
                  <a:pt x="6776" y="13701"/>
                  <a:pt x="6772" y="13791"/>
                </a:cubicBezTo>
                <a:cubicBezTo>
                  <a:pt x="6769" y="13862"/>
                  <a:pt x="6747" y="13916"/>
                  <a:pt x="6747" y="13990"/>
                </a:cubicBezTo>
                <a:cubicBezTo>
                  <a:pt x="6747" y="14064"/>
                  <a:pt x="6747" y="14139"/>
                  <a:pt x="6747" y="14213"/>
                </a:cubicBezTo>
              </a:path>
              <a:path w="1266" h="2605">
                <a:moveTo>
                  <a:pt x="6970" y="13767"/>
                </a:moveTo>
                <a:cubicBezTo>
                  <a:pt x="6994" y="13851"/>
                  <a:pt x="6938" y="13887"/>
                  <a:pt x="6921" y="13990"/>
                </a:cubicBezTo>
                <a:cubicBezTo>
                  <a:pt x="6911" y="14049"/>
                  <a:pt x="6950" y="14187"/>
                  <a:pt x="6970" y="14238"/>
                </a:cubicBezTo>
                <a:cubicBezTo>
                  <a:pt x="6989" y="14286"/>
                  <a:pt x="7068" y="14362"/>
                  <a:pt x="7119" y="14362"/>
                </a:cubicBezTo>
                <a:cubicBezTo>
                  <a:pt x="7197" y="14362"/>
                  <a:pt x="7235" y="14161"/>
                  <a:pt x="7243" y="14139"/>
                </a:cubicBezTo>
                <a:cubicBezTo>
                  <a:pt x="7270" y="14062"/>
                  <a:pt x="7269" y="13996"/>
                  <a:pt x="7243" y="13915"/>
                </a:cubicBezTo>
                <a:cubicBezTo>
                  <a:pt x="7220" y="13843"/>
                  <a:pt x="7190" y="13771"/>
                  <a:pt x="7144" y="13717"/>
                </a:cubicBezTo>
                <a:cubicBezTo>
                  <a:pt x="7099" y="13664"/>
                  <a:pt x="7005" y="13627"/>
                  <a:pt x="6945" y="13593"/>
                </a:cubicBezTo>
              </a:path>
              <a:path w="1266" h="2605">
                <a:moveTo>
                  <a:pt x="6325" y="14585"/>
                </a:moveTo>
                <a:cubicBezTo>
                  <a:pt x="6355" y="14603"/>
                  <a:pt x="6416" y="14650"/>
                  <a:pt x="6449" y="14660"/>
                </a:cubicBezTo>
                <a:cubicBezTo>
                  <a:pt x="6510" y="14677"/>
                  <a:pt x="6545" y="14686"/>
                  <a:pt x="6598" y="14734"/>
                </a:cubicBezTo>
                <a:cubicBezTo>
                  <a:pt x="6606" y="14742"/>
                  <a:pt x="6615" y="14751"/>
                  <a:pt x="6623" y="14759"/>
                </a:cubicBezTo>
                <a:cubicBezTo>
                  <a:pt x="6514" y="14759"/>
                  <a:pt x="6466" y="14747"/>
                  <a:pt x="6375" y="14734"/>
                </a:cubicBezTo>
                <a:cubicBezTo>
                  <a:pt x="6388" y="14822"/>
                  <a:pt x="6452" y="14831"/>
                  <a:pt x="6499" y="14908"/>
                </a:cubicBezTo>
                <a:cubicBezTo>
                  <a:pt x="6543" y="14980"/>
                  <a:pt x="6560" y="14999"/>
                  <a:pt x="6524" y="15081"/>
                </a:cubicBezTo>
                <a:cubicBezTo>
                  <a:pt x="6495" y="15147"/>
                  <a:pt x="6439" y="15193"/>
                  <a:pt x="6375" y="15156"/>
                </a:cubicBezTo>
                <a:cubicBezTo>
                  <a:pt x="6323" y="15125"/>
                  <a:pt x="6308" y="15084"/>
                  <a:pt x="6300" y="15032"/>
                </a:cubicBezTo>
              </a:path>
              <a:path w="1266" h="2605">
                <a:moveTo>
                  <a:pt x="6648" y="14660"/>
                </a:moveTo>
                <a:cubicBezTo>
                  <a:pt x="6727" y="14676"/>
                  <a:pt x="6798" y="14706"/>
                  <a:pt x="6871" y="14709"/>
                </a:cubicBezTo>
                <a:cubicBezTo>
                  <a:pt x="6950" y="14709"/>
                  <a:pt x="6979" y="14706"/>
                  <a:pt x="7020" y="14660"/>
                </a:cubicBezTo>
              </a:path>
              <a:path w="1266" h="2605">
                <a:moveTo>
                  <a:pt x="6970" y="14660"/>
                </a:moveTo>
                <a:cubicBezTo>
                  <a:pt x="6843" y="14842"/>
                  <a:pt x="6849" y="14850"/>
                  <a:pt x="6796" y="15032"/>
                </a:cubicBezTo>
                <a:cubicBezTo>
                  <a:pt x="6778" y="15094"/>
                  <a:pt x="6772" y="15138"/>
                  <a:pt x="6772" y="15205"/>
                </a:cubicBezTo>
              </a:path>
              <a:path w="1266" h="2605">
                <a:moveTo>
                  <a:pt x="7020" y="14709"/>
                </a:moveTo>
                <a:cubicBezTo>
                  <a:pt x="7010" y="14785"/>
                  <a:pt x="6993" y="14856"/>
                  <a:pt x="6970" y="14932"/>
                </a:cubicBezTo>
                <a:cubicBezTo>
                  <a:pt x="6934" y="15049"/>
                  <a:pt x="6902" y="15155"/>
                  <a:pt x="6896" y="15280"/>
                </a:cubicBezTo>
                <a:cubicBezTo>
                  <a:pt x="6896" y="15296"/>
                  <a:pt x="6896" y="15313"/>
                  <a:pt x="6896" y="15329"/>
                </a:cubicBezTo>
              </a:path>
              <a:path w="1266" h="2605">
                <a:moveTo>
                  <a:pt x="7144" y="15329"/>
                </a:moveTo>
                <a:cubicBezTo>
                  <a:pt x="6980" y="15386"/>
                  <a:pt x="6827" y="15434"/>
                  <a:pt x="6672" y="15503"/>
                </a:cubicBezTo>
                <a:cubicBezTo>
                  <a:pt x="6600" y="15535"/>
                  <a:pt x="6542" y="15563"/>
                  <a:pt x="6474" y="15602"/>
                </a:cubicBezTo>
              </a:path>
              <a:path w="1266" h="2605">
                <a:moveTo>
                  <a:pt x="6722" y="15652"/>
                </a:moveTo>
                <a:cubicBezTo>
                  <a:pt x="6836" y="15652"/>
                  <a:pt x="6934" y="15628"/>
                  <a:pt x="7020" y="15701"/>
                </a:cubicBezTo>
                <a:cubicBezTo>
                  <a:pt x="7080" y="15752"/>
                  <a:pt x="7015" y="15836"/>
                  <a:pt x="6970" y="15875"/>
                </a:cubicBezTo>
                <a:cubicBezTo>
                  <a:pt x="6924" y="15916"/>
                  <a:pt x="6829" y="15946"/>
                  <a:pt x="6772" y="15949"/>
                </a:cubicBezTo>
                <a:cubicBezTo>
                  <a:pt x="6650" y="15956"/>
                  <a:pt x="6908" y="15962"/>
                  <a:pt x="6945" y="15974"/>
                </a:cubicBezTo>
                <a:cubicBezTo>
                  <a:pt x="7006" y="15994"/>
                  <a:pt x="7066" y="16039"/>
                  <a:pt x="7119" y="160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Find the quadrant: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af9e6"/>
                </a:solidFill>
                <a:latin typeface="Arial"/>
              </a:rPr>
              <a:t>36</a:t>
            </a:r>
            <a:r>
              <a:rPr b="0" lang="en-US" sz="5000" spc="-1" strike="noStrike">
                <a:solidFill>
                  <a:srgbClr val="faf9e6"/>
                </a:solidFill>
                <a:latin typeface="Arial"/>
                <a:ea typeface="Arial"/>
              </a:rPr>
              <a:t>°</a:t>
            </a:r>
            <a:endParaRPr b="0" lang="en-US" sz="5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af9e6"/>
                </a:solidFill>
                <a:latin typeface="Arial"/>
                <a:ea typeface="Arial"/>
              </a:rPr>
              <a:t>95°</a:t>
            </a:r>
            <a:endParaRPr b="0" lang="en-US" sz="5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af9e6"/>
                </a:solidFill>
                <a:latin typeface="Arial"/>
                <a:ea typeface="Arial"/>
              </a:rPr>
              <a:t>400°</a:t>
            </a:r>
            <a:endParaRPr b="0" lang="en-US" sz="5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af9e6"/>
                </a:solidFill>
                <a:latin typeface="Arial"/>
                <a:ea typeface="Arial"/>
              </a:rPr>
              <a:t>-100°</a:t>
            </a:r>
            <a:endParaRPr b="0" lang="en-US" sz="5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2" name="Ink 4"/>
          <p:cNvSpPr/>
          <p:nvPr/>
        </p:nvSpPr>
        <p:spPr>
          <a:xfrm>
            <a:off x="3697200" y="2384280"/>
            <a:ext cx="2411640" cy="1160640"/>
          </a:xfrm>
          <a:custGeom>
            <a:avLst/>
            <a:gdLst/>
            <a:ahLst/>
            <a:rect l="l" t="t" r="r" b="b"/>
            <a:pathLst>
              <a:path w="6698" h="3225">
                <a:moveTo>
                  <a:pt x="16768" y="6821"/>
                </a:moveTo>
                <a:cubicBezTo>
                  <a:pt x="16789" y="6821"/>
                  <a:pt x="16813" y="6873"/>
                  <a:pt x="16917" y="6821"/>
                </a:cubicBezTo>
                <a:cubicBezTo>
                  <a:pt x="16942" y="6796"/>
                  <a:pt x="16950" y="6788"/>
                  <a:pt x="16966" y="6772"/>
                </a:cubicBezTo>
                <a:cubicBezTo>
                  <a:pt x="16927" y="6776"/>
                  <a:pt x="16870" y="6759"/>
                  <a:pt x="16818" y="6772"/>
                </a:cubicBezTo>
                <a:cubicBezTo>
                  <a:pt x="16762" y="6787"/>
                  <a:pt x="16766" y="6802"/>
                  <a:pt x="16718" y="6821"/>
                </a:cubicBezTo>
                <a:cubicBezTo>
                  <a:pt x="16784" y="6835"/>
                  <a:pt x="16810" y="6900"/>
                  <a:pt x="16867" y="6871"/>
                </a:cubicBezTo>
                <a:cubicBezTo>
                  <a:pt x="16933" y="6837"/>
                  <a:pt x="16911" y="6794"/>
                  <a:pt x="16942" y="6772"/>
                </a:cubicBezTo>
                <a:cubicBezTo>
                  <a:pt x="16881" y="6767"/>
                  <a:pt x="16828" y="6733"/>
                  <a:pt x="16743" y="6747"/>
                </a:cubicBezTo>
                <a:cubicBezTo>
                  <a:pt x="16735" y="6755"/>
                  <a:pt x="16726" y="6764"/>
                  <a:pt x="16718" y="6772"/>
                </a:cubicBezTo>
                <a:cubicBezTo>
                  <a:pt x="16796" y="6811"/>
                  <a:pt x="16801" y="6882"/>
                  <a:pt x="16917" y="6871"/>
                </a:cubicBezTo>
                <a:cubicBezTo>
                  <a:pt x="16942" y="6846"/>
                  <a:pt x="16950" y="6838"/>
                  <a:pt x="16917" y="6821"/>
                </a:cubicBezTo>
                <a:cubicBezTo>
                  <a:pt x="16913" y="6916"/>
                  <a:pt x="16913" y="7004"/>
                  <a:pt x="16892" y="7094"/>
                </a:cubicBezTo>
                <a:cubicBezTo>
                  <a:pt x="16877" y="7157"/>
                  <a:pt x="16862" y="7228"/>
                  <a:pt x="16842" y="7293"/>
                </a:cubicBezTo>
                <a:cubicBezTo>
                  <a:pt x="16823" y="7354"/>
                  <a:pt x="16787" y="7410"/>
                  <a:pt x="16768" y="7466"/>
                </a:cubicBezTo>
                <a:cubicBezTo>
                  <a:pt x="16748" y="7524"/>
                  <a:pt x="16738" y="7577"/>
                  <a:pt x="16718" y="7640"/>
                </a:cubicBezTo>
                <a:cubicBezTo>
                  <a:pt x="16699" y="7698"/>
                  <a:pt x="16693" y="7780"/>
                  <a:pt x="16669" y="7838"/>
                </a:cubicBezTo>
                <a:cubicBezTo>
                  <a:pt x="16643" y="7901"/>
                  <a:pt x="16600" y="7971"/>
                  <a:pt x="16570" y="8037"/>
                </a:cubicBezTo>
                <a:cubicBezTo>
                  <a:pt x="16537" y="8109"/>
                  <a:pt x="16492" y="8194"/>
                  <a:pt x="16446" y="8260"/>
                </a:cubicBezTo>
                <a:cubicBezTo>
                  <a:pt x="16406" y="8317"/>
                  <a:pt x="16344" y="8394"/>
                  <a:pt x="16297" y="8458"/>
                </a:cubicBezTo>
                <a:cubicBezTo>
                  <a:pt x="16253" y="8519"/>
                  <a:pt x="16184" y="8574"/>
                  <a:pt x="16148" y="8632"/>
                </a:cubicBezTo>
                <a:cubicBezTo>
                  <a:pt x="16103" y="8703"/>
                  <a:pt x="16076" y="8749"/>
                  <a:pt x="16024" y="8806"/>
                </a:cubicBezTo>
                <a:cubicBezTo>
                  <a:pt x="15962" y="8874"/>
                  <a:pt x="15874" y="8934"/>
                  <a:pt x="15825" y="8979"/>
                </a:cubicBezTo>
                <a:cubicBezTo>
                  <a:pt x="15775" y="9024"/>
                  <a:pt x="15730" y="9090"/>
                  <a:pt x="15677" y="9128"/>
                </a:cubicBezTo>
                <a:cubicBezTo>
                  <a:pt x="15623" y="9167"/>
                  <a:pt x="15557" y="9188"/>
                  <a:pt x="15503" y="9227"/>
                </a:cubicBezTo>
                <a:cubicBezTo>
                  <a:pt x="15410" y="9295"/>
                  <a:pt x="15353" y="9329"/>
                  <a:pt x="15255" y="9376"/>
                </a:cubicBezTo>
                <a:cubicBezTo>
                  <a:pt x="15165" y="9419"/>
                  <a:pt x="15067" y="9491"/>
                  <a:pt x="14982" y="9525"/>
                </a:cubicBezTo>
                <a:cubicBezTo>
                  <a:pt x="14889" y="9562"/>
                  <a:pt x="14772" y="9583"/>
                  <a:pt x="14684" y="9624"/>
                </a:cubicBezTo>
                <a:cubicBezTo>
                  <a:pt x="14632" y="9648"/>
                  <a:pt x="14586" y="9679"/>
                  <a:pt x="14536" y="9699"/>
                </a:cubicBezTo>
                <a:cubicBezTo>
                  <a:pt x="14459" y="9730"/>
                  <a:pt x="14415" y="9732"/>
                  <a:pt x="14337" y="9748"/>
                </a:cubicBezTo>
                <a:cubicBezTo>
                  <a:pt x="14250" y="9765"/>
                  <a:pt x="14152" y="9777"/>
                  <a:pt x="14064" y="9798"/>
                </a:cubicBezTo>
                <a:cubicBezTo>
                  <a:pt x="14002" y="9813"/>
                  <a:pt x="13934" y="9842"/>
                  <a:pt x="13866" y="9847"/>
                </a:cubicBezTo>
                <a:cubicBezTo>
                  <a:pt x="13734" y="9857"/>
                  <a:pt x="13587" y="9849"/>
                  <a:pt x="13469" y="9823"/>
                </a:cubicBezTo>
                <a:cubicBezTo>
                  <a:pt x="13411" y="9810"/>
                  <a:pt x="13374" y="9794"/>
                  <a:pt x="13320" y="9773"/>
                </a:cubicBezTo>
                <a:cubicBezTo>
                  <a:pt x="13262" y="9750"/>
                  <a:pt x="13204" y="9696"/>
                  <a:pt x="13146" y="9674"/>
                </a:cubicBezTo>
                <a:cubicBezTo>
                  <a:pt x="13110" y="9660"/>
                  <a:pt x="13057" y="9634"/>
                  <a:pt x="13022" y="9624"/>
                </a:cubicBezTo>
                <a:cubicBezTo>
                  <a:pt x="12966" y="9608"/>
                  <a:pt x="12904" y="9609"/>
                  <a:pt x="12849" y="9599"/>
                </a:cubicBezTo>
                <a:cubicBezTo>
                  <a:pt x="12792" y="9589"/>
                  <a:pt x="12734" y="9589"/>
                  <a:pt x="12675" y="9575"/>
                </a:cubicBezTo>
                <a:cubicBezTo>
                  <a:pt x="12615" y="9561"/>
                  <a:pt x="12557" y="9518"/>
                  <a:pt x="12502" y="9500"/>
                </a:cubicBezTo>
                <a:cubicBezTo>
                  <a:pt x="12444" y="9481"/>
                  <a:pt x="12384" y="9447"/>
                  <a:pt x="12328" y="9426"/>
                </a:cubicBezTo>
                <a:cubicBezTo>
                  <a:pt x="12258" y="9400"/>
                  <a:pt x="12197" y="9388"/>
                  <a:pt x="12129" y="9351"/>
                </a:cubicBezTo>
                <a:cubicBezTo>
                  <a:pt x="12050" y="9308"/>
                  <a:pt x="12003" y="9252"/>
                  <a:pt x="11931" y="9203"/>
                </a:cubicBezTo>
                <a:cubicBezTo>
                  <a:pt x="11840" y="9142"/>
                  <a:pt x="11791" y="9074"/>
                  <a:pt x="11708" y="9004"/>
                </a:cubicBezTo>
                <a:cubicBezTo>
                  <a:pt x="11628" y="8937"/>
                  <a:pt x="11514" y="8887"/>
                  <a:pt x="11435" y="8806"/>
                </a:cubicBezTo>
                <a:cubicBezTo>
                  <a:pt x="11340" y="8709"/>
                  <a:pt x="11269" y="8607"/>
                  <a:pt x="11187" y="8508"/>
                </a:cubicBezTo>
                <a:cubicBezTo>
                  <a:pt x="11084" y="8384"/>
                  <a:pt x="10955" y="8242"/>
                  <a:pt x="10864" y="8111"/>
                </a:cubicBezTo>
                <a:cubicBezTo>
                  <a:pt x="10785" y="7997"/>
                  <a:pt x="10710" y="7883"/>
                  <a:pt x="10641" y="7764"/>
                </a:cubicBezTo>
                <a:cubicBezTo>
                  <a:pt x="10585" y="7668"/>
                  <a:pt x="10510" y="7544"/>
                  <a:pt x="10468" y="7441"/>
                </a:cubicBezTo>
                <a:cubicBezTo>
                  <a:pt x="10406" y="7287"/>
                  <a:pt x="10324" y="7084"/>
                  <a:pt x="10294" y="6921"/>
                </a:cubicBezTo>
                <a:cubicBezTo>
                  <a:pt x="10283" y="6862"/>
                  <a:pt x="10314" y="6715"/>
                  <a:pt x="10269" y="6672"/>
                </a:cubicBezTo>
                <a:cubicBezTo>
                  <a:pt x="10237" y="6642"/>
                  <a:pt x="10243" y="6687"/>
                  <a:pt x="10269" y="6772"/>
                </a:cubicBezTo>
                <a:cubicBezTo>
                  <a:pt x="10292" y="6849"/>
                  <a:pt x="10320" y="6921"/>
                  <a:pt x="10344" y="6995"/>
                </a:cubicBezTo>
                <a:cubicBezTo>
                  <a:pt x="10380" y="7105"/>
                  <a:pt x="10414" y="7209"/>
                  <a:pt x="10443" y="7317"/>
                </a:cubicBezTo>
                <a:cubicBezTo>
                  <a:pt x="10477" y="7442"/>
                  <a:pt x="10527" y="7545"/>
                  <a:pt x="10567" y="7665"/>
                </a:cubicBezTo>
                <a:cubicBezTo>
                  <a:pt x="10609" y="7792"/>
                  <a:pt x="10646" y="7921"/>
                  <a:pt x="10716" y="8037"/>
                </a:cubicBezTo>
                <a:cubicBezTo>
                  <a:pt x="10804" y="8182"/>
                  <a:pt x="10926" y="8305"/>
                  <a:pt x="11038" y="8434"/>
                </a:cubicBezTo>
                <a:cubicBezTo>
                  <a:pt x="11141" y="8553"/>
                  <a:pt x="11227" y="8644"/>
                  <a:pt x="11361" y="8731"/>
                </a:cubicBezTo>
                <a:cubicBezTo>
                  <a:pt x="11442" y="8784"/>
                  <a:pt x="11521" y="8833"/>
                  <a:pt x="11609" y="8880"/>
                </a:cubicBezTo>
                <a:cubicBezTo>
                  <a:pt x="11696" y="8926"/>
                  <a:pt x="11774" y="8925"/>
                  <a:pt x="11857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3" name="Ink 5"/>
          <p:cNvSpPr/>
          <p:nvPr/>
        </p:nvSpPr>
        <p:spPr>
          <a:xfrm>
            <a:off x="3840120" y="1384200"/>
            <a:ext cx="2152800" cy="1911600"/>
          </a:xfrm>
          <a:custGeom>
            <a:avLst/>
            <a:gdLst/>
            <a:ahLst/>
            <a:rect l="l" t="t" r="r" b="b"/>
            <a:pathLst>
              <a:path w="5979" h="5309">
                <a:moveTo>
                  <a:pt x="14089" y="3944"/>
                </a:moveTo>
                <a:cubicBezTo>
                  <a:pt x="13671" y="3832"/>
                  <a:pt x="13432" y="3856"/>
                  <a:pt x="13022" y="3969"/>
                </a:cubicBezTo>
                <a:cubicBezTo>
                  <a:pt x="12725" y="4051"/>
                  <a:pt x="12437" y="4225"/>
                  <a:pt x="12179" y="4390"/>
                </a:cubicBezTo>
                <a:cubicBezTo>
                  <a:pt x="11831" y="4613"/>
                  <a:pt x="11549" y="4927"/>
                  <a:pt x="11311" y="5259"/>
                </a:cubicBezTo>
                <a:cubicBezTo>
                  <a:pt x="11120" y="5525"/>
                  <a:pt x="10963" y="5829"/>
                  <a:pt x="10840" y="6127"/>
                </a:cubicBezTo>
                <a:cubicBezTo>
                  <a:pt x="10757" y="6327"/>
                  <a:pt x="10725" y="6583"/>
                  <a:pt x="10691" y="6796"/>
                </a:cubicBezTo>
                <a:cubicBezTo>
                  <a:pt x="10641" y="7109"/>
                  <a:pt x="10656" y="7438"/>
                  <a:pt x="10765" y="7739"/>
                </a:cubicBezTo>
                <a:cubicBezTo>
                  <a:pt x="10829" y="7915"/>
                  <a:pt x="10939" y="8120"/>
                  <a:pt x="11063" y="8260"/>
                </a:cubicBezTo>
                <a:cubicBezTo>
                  <a:pt x="11190" y="8405"/>
                  <a:pt x="11367" y="8561"/>
                  <a:pt x="11534" y="8657"/>
                </a:cubicBezTo>
                <a:cubicBezTo>
                  <a:pt x="11896" y="8865"/>
                  <a:pt x="12264" y="9010"/>
                  <a:pt x="12675" y="9079"/>
                </a:cubicBezTo>
                <a:cubicBezTo>
                  <a:pt x="13064" y="9144"/>
                  <a:pt x="13451" y="9184"/>
                  <a:pt x="13841" y="9103"/>
                </a:cubicBezTo>
                <a:cubicBezTo>
                  <a:pt x="14088" y="9052"/>
                  <a:pt x="14344" y="9008"/>
                  <a:pt x="14585" y="8930"/>
                </a:cubicBezTo>
                <a:cubicBezTo>
                  <a:pt x="14900" y="8828"/>
                  <a:pt x="15136" y="8697"/>
                  <a:pt x="15404" y="8508"/>
                </a:cubicBezTo>
                <a:cubicBezTo>
                  <a:pt x="15594" y="8374"/>
                  <a:pt x="15793" y="8268"/>
                  <a:pt x="15949" y="8086"/>
                </a:cubicBezTo>
                <a:cubicBezTo>
                  <a:pt x="16130" y="7875"/>
                  <a:pt x="16272" y="7639"/>
                  <a:pt x="16396" y="7392"/>
                </a:cubicBezTo>
                <a:cubicBezTo>
                  <a:pt x="16538" y="7110"/>
                  <a:pt x="16622" y="6817"/>
                  <a:pt x="16644" y="6499"/>
                </a:cubicBezTo>
                <a:cubicBezTo>
                  <a:pt x="16657" y="6302"/>
                  <a:pt x="16642" y="6095"/>
                  <a:pt x="16594" y="5904"/>
                </a:cubicBezTo>
                <a:cubicBezTo>
                  <a:pt x="16547" y="5716"/>
                  <a:pt x="16468" y="5500"/>
                  <a:pt x="16371" y="5333"/>
                </a:cubicBezTo>
                <a:cubicBezTo>
                  <a:pt x="16258" y="5138"/>
                  <a:pt x="16115" y="4969"/>
                  <a:pt x="15949" y="4812"/>
                </a:cubicBezTo>
                <a:cubicBezTo>
                  <a:pt x="15722" y="4598"/>
                  <a:pt x="15475" y="4451"/>
                  <a:pt x="15180" y="4341"/>
                </a:cubicBezTo>
                <a:cubicBezTo>
                  <a:pt x="14944" y="4253"/>
                  <a:pt x="14693" y="4164"/>
                  <a:pt x="14436" y="4167"/>
                </a:cubicBezTo>
                <a:cubicBezTo>
                  <a:pt x="14146" y="4188"/>
                  <a:pt x="14087" y="4188"/>
                  <a:pt x="13915" y="4217"/>
                </a:cubicBezTo>
              </a:path>
              <a:path w="5979" h="5309">
                <a:moveTo>
                  <a:pt x="10815" y="6499"/>
                </a:moveTo>
                <a:cubicBezTo>
                  <a:pt x="10873" y="6520"/>
                  <a:pt x="10917" y="6564"/>
                  <a:pt x="10988" y="6573"/>
                </a:cubicBezTo>
                <a:cubicBezTo>
                  <a:pt x="11142" y="6591"/>
                  <a:pt x="11307" y="6585"/>
                  <a:pt x="11460" y="6598"/>
                </a:cubicBezTo>
                <a:cubicBezTo>
                  <a:pt x="11819" y="6628"/>
                  <a:pt x="12191" y="6605"/>
                  <a:pt x="12551" y="6623"/>
                </a:cubicBezTo>
                <a:cubicBezTo>
                  <a:pt x="12792" y="6635"/>
                  <a:pt x="13030" y="6659"/>
                  <a:pt x="13271" y="6672"/>
                </a:cubicBezTo>
                <a:cubicBezTo>
                  <a:pt x="13609" y="6691"/>
                  <a:pt x="13948" y="6718"/>
                  <a:pt x="14288" y="6722"/>
                </a:cubicBezTo>
                <a:cubicBezTo>
                  <a:pt x="14562" y="6725"/>
                  <a:pt x="14831" y="6747"/>
                  <a:pt x="15106" y="6747"/>
                </a:cubicBezTo>
                <a:cubicBezTo>
                  <a:pt x="15354" y="6747"/>
                  <a:pt x="15604" y="6748"/>
                  <a:pt x="15850" y="6772"/>
                </a:cubicBezTo>
                <a:cubicBezTo>
                  <a:pt x="15998" y="6787"/>
                  <a:pt x="16135" y="6796"/>
                  <a:pt x="16272" y="6796"/>
                </a:cubicBezTo>
              </a:path>
              <a:path w="5979" h="5309">
                <a:moveTo>
                  <a:pt x="13246" y="4142"/>
                </a:moveTo>
                <a:cubicBezTo>
                  <a:pt x="13226" y="4268"/>
                  <a:pt x="13208" y="4380"/>
                  <a:pt x="13196" y="4514"/>
                </a:cubicBezTo>
                <a:cubicBezTo>
                  <a:pt x="13184" y="4649"/>
                  <a:pt x="13187" y="4799"/>
                  <a:pt x="13171" y="4936"/>
                </a:cubicBezTo>
                <a:cubicBezTo>
                  <a:pt x="13149" y="5119"/>
                  <a:pt x="13125" y="5297"/>
                  <a:pt x="13122" y="5482"/>
                </a:cubicBezTo>
                <a:cubicBezTo>
                  <a:pt x="13118" y="5690"/>
                  <a:pt x="13083" y="5895"/>
                  <a:pt x="13072" y="6102"/>
                </a:cubicBezTo>
                <a:cubicBezTo>
                  <a:pt x="13056" y="6392"/>
                  <a:pt x="13011" y="6680"/>
                  <a:pt x="12998" y="6970"/>
                </a:cubicBezTo>
                <a:cubicBezTo>
                  <a:pt x="12988" y="7203"/>
                  <a:pt x="12960" y="7433"/>
                  <a:pt x="12948" y="7665"/>
                </a:cubicBezTo>
                <a:cubicBezTo>
                  <a:pt x="12938" y="7862"/>
                  <a:pt x="12941" y="8064"/>
                  <a:pt x="12923" y="8260"/>
                </a:cubicBezTo>
                <a:cubicBezTo>
                  <a:pt x="12903" y="8474"/>
                  <a:pt x="12884" y="8689"/>
                  <a:pt x="12874" y="8905"/>
                </a:cubicBezTo>
                <a:cubicBezTo>
                  <a:pt x="12870" y="8981"/>
                  <a:pt x="12891" y="9090"/>
                  <a:pt x="12898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4" name="Ink 6"/>
          <p:cNvSpPr/>
          <p:nvPr/>
        </p:nvSpPr>
        <p:spPr>
          <a:xfrm>
            <a:off x="2313000" y="1731960"/>
            <a:ext cx="581040" cy="455760"/>
          </a:xfrm>
          <a:custGeom>
            <a:avLst/>
            <a:gdLst/>
            <a:ahLst/>
            <a:rect l="l" t="t" r="r" b="b"/>
            <a:pathLst>
              <a:path w="1614" h="1266">
                <a:moveTo>
                  <a:pt x="7218" y="4812"/>
                </a:moveTo>
                <a:cubicBezTo>
                  <a:pt x="7210" y="4880"/>
                  <a:pt x="7211" y="4969"/>
                  <a:pt x="7193" y="5035"/>
                </a:cubicBezTo>
                <a:cubicBezTo>
                  <a:pt x="7160" y="5157"/>
                  <a:pt x="7147" y="5302"/>
                  <a:pt x="7144" y="5432"/>
                </a:cubicBezTo>
                <a:cubicBezTo>
                  <a:pt x="7140" y="5597"/>
                  <a:pt x="7144" y="5763"/>
                  <a:pt x="7144" y="5928"/>
                </a:cubicBezTo>
              </a:path>
              <a:path w="1614" h="1266">
                <a:moveTo>
                  <a:pt x="6424" y="6077"/>
                </a:moveTo>
                <a:cubicBezTo>
                  <a:pt x="6509" y="6066"/>
                  <a:pt x="6581" y="6052"/>
                  <a:pt x="6672" y="6052"/>
                </a:cubicBezTo>
                <a:cubicBezTo>
                  <a:pt x="6805" y="6052"/>
                  <a:pt x="6934" y="6028"/>
                  <a:pt x="7069" y="6028"/>
                </a:cubicBezTo>
                <a:cubicBezTo>
                  <a:pt x="7175" y="6028"/>
                  <a:pt x="7993" y="6088"/>
                  <a:pt x="8012" y="6003"/>
                </a:cubicBezTo>
                <a:cubicBezTo>
                  <a:pt x="8004" y="5986"/>
                  <a:pt x="7995" y="5970"/>
                  <a:pt x="7987" y="5953"/>
                </a:cubicBezTo>
              </a:path>
              <a:path w="1614" h="1266">
                <a:moveTo>
                  <a:pt x="6474" y="5085"/>
                </a:moveTo>
                <a:cubicBezTo>
                  <a:pt x="6487" y="4956"/>
                  <a:pt x="6526" y="4992"/>
                  <a:pt x="6648" y="4961"/>
                </a:cubicBezTo>
                <a:cubicBezTo>
                  <a:pt x="6795" y="4924"/>
                  <a:pt x="6968" y="4920"/>
                  <a:pt x="7119" y="4911"/>
                </a:cubicBezTo>
                <a:cubicBezTo>
                  <a:pt x="7422" y="4893"/>
                  <a:pt x="7733" y="4911"/>
                  <a:pt x="8037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5" name="Ink 7"/>
          <p:cNvSpPr/>
          <p:nvPr/>
        </p:nvSpPr>
        <p:spPr>
          <a:xfrm>
            <a:off x="2320920" y="2847960"/>
            <a:ext cx="528480" cy="366840"/>
          </a:xfrm>
          <a:custGeom>
            <a:avLst/>
            <a:gdLst/>
            <a:ahLst/>
            <a:rect l="l" t="t" r="r" b="b"/>
            <a:pathLst>
              <a:path w="1465" h="1018">
                <a:moveTo>
                  <a:pt x="6896" y="8062"/>
                </a:moveTo>
                <a:cubicBezTo>
                  <a:pt x="6896" y="8196"/>
                  <a:pt x="6875" y="8325"/>
                  <a:pt x="6871" y="8458"/>
                </a:cubicBezTo>
                <a:cubicBezTo>
                  <a:pt x="6868" y="8566"/>
                  <a:pt x="6882" y="8653"/>
                  <a:pt x="6896" y="8756"/>
                </a:cubicBezTo>
                <a:cubicBezTo>
                  <a:pt x="6904" y="8815"/>
                  <a:pt x="6881" y="8829"/>
                  <a:pt x="6921" y="8855"/>
                </a:cubicBezTo>
              </a:path>
              <a:path w="1465" h="1018">
                <a:moveTo>
                  <a:pt x="7417" y="7913"/>
                </a:moveTo>
                <a:cubicBezTo>
                  <a:pt x="7401" y="8026"/>
                  <a:pt x="7395" y="8151"/>
                  <a:pt x="7367" y="8260"/>
                </a:cubicBezTo>
                <a:cubicBezTo>
                  <a:pt x="7339" y="8370"/>
                  <a:pt x="7342" y="8467"/>
                  <a:pt x="7342" y="8582"/>
                </a:cubicBezTo>
                <a:cubicBezTo>
                  <a:pt x="7342" y="8665"/>
                  <a:pt x="7389" y="8742"/>
                  <a:pt x="7367" y="8830"/>
                </a:cubicBezTo>
                <a:cubicBezTo>
                  <a:pt x="7347" y="8871"/>
                  <a:pt x="7349" y="8887"/>
                  <a:pt x="7317" y="8880"/>
                </a:cubicBezTo>
              </a:path>
              <a:path w="1465" h="1018">
                <a:moveTo>
                  <a:pt x="6474" y="8806"/>
                </a:moveTo>
                <a:cubicBezTo>
                  <a:pt x="6577" y="8850"/>
                  <a:pt x="6728" y="8871"/>
                  <a:pt x="6846" y="8880"/>
                </a:cubicBezTo>
                <a:cubicBezTo>
                  <a:pt x="7011" y="8892"/>
                  <a:pt x="7178" y="8882"/>
                  <a:pt x="7342" y="8905"/>
                </a:cubicBezTo>
                <a:cubicBezTo>
                  <a:pt x="7485" y="8925"/>
                  <a:pt x="7619" y="8930"/>
                  <a:pt x="7764" y="8930"/>
                </a:cubicBezTo>
                <a:cubicBezTo>
                  <a:pt x="7887" y="8930"/>
                  <a:pt x="7897" y="8880"/>
                  <a:pt x="7888" y="8781"/>
                </a:cubicBezTo>
              </a:path>
              <a:path w="1465" h="1018">
                <a:moveTo>
                  <a:pt x="6449" y="7938"/>
                </a:moveTo>
                <a:cubicBezTo>
                  <a:pt x="6583" y="7893"/>
                  <a:pt x="6727" y="7913"/>
                  <a:pt x="6871" y="7913"/>
                </a:cubicBezTo>
                <a:cubicBezTo>
                  <a:pt x="7044" y="7913"/>
                  <a:pt x="7222" y="7913"/>
                  <a:pt x="7392" y="7938"/>
                </a:cubicBezTo>
                <a:cubicBezTo>
                  <a:pt x="7476" y="7950"/>
                  <a:pt x="7618" y="8008"/>
                  <a:pt x="7689" y="7962"/>
                </a:cubicBezTo>
                <a:cubicBezTo>
                  <a:pt x="7681" y="7962"/>
                  <a:pt x="7673" y="7962"/>
                  <a:pt x="7665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6" name="Ink 8"/>
          <p:cNvSpPr/>
          <p:nvPr/>
        </p:nvSpPr>
        <p:spPr>
          <a:xfrm>
            <a:off x="2544840" y="3687840"/>
            <a:ext cx="849240" cy="1527120"/>
          </a:xfrm>
          <a:custGeom>
            <a:avLst/>
            <a:gdLst/>
            <a:ahLst/>
            <a:rect l="l" t="t" r="r" b="b"/>
            <a:pathLst>
              <a:path w="2358" h="4243">
                <a:moveTo>
                  <a:pt x="7665" y="10244"/>
                </a:moveTo>
                <a:cubicBezTo>
                  <a:pt x="7665" y="10494"/>
                  <a:pt x="7663" y="10741"/>
                  <a:pt x="7689" y="10988"/>
                </a:cubicBezTo>
                <a:cubicBezTo>
                  <a:pt x="7697" y="11066"/>
                  <a:pt x="7714" y="11130"/>
                  <a:pt x="7714" y="11212"/>
                </a:cubicBezTo>
                <a:cubicBezTo>
                  <a:pt x="7714" y="11220"/>
                  <a:pt x="7714" y="11229"/>
                  <a:pt x="7714" y="11237"/>
                </a:cubicBezTo>
              </a:path>
              <a:path w="2358" h="4243">
                <a:moveTo>
                  <a:pt x="7169" y="11311"/>
                </a:moveTo>
                <a:cubicBezTo>
                  <a:pt x="7344" y="11390"/>
                  <a:pt x="7529" y="11372"/>
                  <a:pt x="7714" y="11410"/>
                </a:cubicBezTo>
                <a:cubicBezTo>
                  <a:pt x="7860" y="11440"/>
                  <a:pt x="8012" y="11455"/>
                  <a:pt x="8161" y="11460"/>
                </a:cubicBezTo>
                <a:cubicBezTo>
                  <a:pt x="8258" y="11463"/>
                  <a:pt x="8331" y="11450"/>
                  <a:pt x="8384" y="11385"/>
                </a:cubicBezTo>
              </a:path>
              <a:path w="2358" h="4243">
                <a:moveTo>
                  <a:pt x="7218" y="10344"/>
                </a:moveTo>
                <a:cubicBezTo>
                  <a:pt x="7443" y="10351"/>
                  <a:pt x="7642" y="10379"/>
                  <a:pt x="7863" y="10418"/>
                </a:cubicBezTo>
                <a:cubicBezTo>
                  <a:pt x="7997" y="10442"/>
                  <a:pt x="8125" y="10460"/>
                  <a:pt x="8260" y="10468"/>
                </a:cubicBezTo>
              </a:path>
              <a:path w="2358" h="4243">
                <a:moveTo>
                  <a:pt x="7838" y="12576"/>
                </a:moveTo>
                <a:cubicBezTo>
                  <a:pt x="7827" y="12707"/>
                  <a:pt x="7805" y="12841"/>
                  <a:pt x="7789" y="12973"/>
                </a:cubicBezTo>
                <a:cubicBezTo>
                  <a:pt x="7763" y="13187"/>
                  <a:pt x="7763" y="13404"/>
                  <a:pt x="7739" y="13618"/>
                </a:cubicBezTo>
                <a:cubicBezTo>
                  <a:pt x="7715" y="13838"/>
                  <a:pt x="7623" y="14045"/>
                  <a:pt x="7590" y="14263"/>
                </a:cubicBezTo>
                <a:cubicBezTo>
                  <a:pt x="7578" y="14342"/>
                  <a:pt x="7587" y="14343"/>
                  <a:pt x="7640" y="14387"/>
                </a:cubicBezTo>
                <a:cubicBezTo>
                  <a:pt x="7699" y="14357"/>
                  <a:pt x="7722" y="14339"/>
                  <a:pt x="7739" y="14288"/>
                </a:cubicBezTo>
              </a:path>
              <a:path w="2358" h="4243">
                <a:moveTo>
                  <a:pt x="8359" y="12774"/>
                </a:moveTo>
                <a:cubicBezTo>
                  <a:pt x="8342" y="13058"/>
                  <a:pt x="8334" y="13334"/>
                  <a:pt x="8334" y="13618"/>
                </a:cubicBezTo>
                <a:cubicBezTo>
                  <a:pt x="8334" y="13836"/>
                  <a:pt x="8330" y="14049"/>
                  <a:pt x="8310" y="14263"/>
                </a:cubicBezTo>
                <a:cubicBezTo>
                  <a:pt x="8300" y="14371"/>
                  <a:pt x="8275" y="14412"/>
                  <a:pt x="8359" y="14312"/>
                </a:cubicBezTo>
              </a:path>
              <a:path w="2358" h="4243">
                <a:moveTo>
                  <a:pt x="8855" y="12626"/>
                </a:moveTo>
                <a:cubicBezTo>
                  <a:pt x="8855" y="12786"/>
                  <a:pt x="8873" y="12939"/>
                  <a:pt x="8880" y="13097"/>
                </a:cubicBezTo>
                <a:cubicBezTo>
                  <a:pt x="8892" y="13369"/>
                  <a:pt x="8900" y="13643"/>
                  <a:pt x="8905" y="13915"/>
                </a:cubicBezTo>
                <a:cubicBezTo>
                  <a:pt x="8907" y="14063"/>
                  <a:pt x="8909" y="14219"/>
                  <a:pt x="8880" y="14362"/>
                </a:cubicBezTo>
                <a:cubicBezTo>
                  <a:pt x="8858" y="14427"/>
                  <a:pt x="8850" y="14442"/>
                  <a:pt x="8855" y="14486"/>
                </a:cubicBezTo>
              </a:path>
              <a:path w="2358" h="4243">
                <a:moveTo>
                  <a:pt x="9426" y="14188"/>
                </a:moveTo>
                <a:cubicBezTo>
                  <a:pt x="9348" y="14238"/>
                  <a:pt x="9297" y="14264"/>
                  <a:pt x="9203" y="14288"/>
                </a:cubicBezTo>
                <a:cubicBezTo>
                  <a:pt x="9030" y="14333"/>
                  <a:pt x="8858" y="14295"/>
                  <a:pt x="8682" y="14312"/>
                </a:cubicBezTo>
                <a:cubicBezTo>
                  <a:pt x="8475" y="14332"/>
                  <a:pt x="8268" y="14342"/>
                  <a:pt x="8062" y="14362"/>
                </a:cubicBezTo>
                <a:cubicBezTo>
                  <a:pt x="7759" y="14391"/>
                  <a:pt x="7442" y="14405"/>
                  <a:pt x="7144" y="14461"/>
                </a:cubicBezTo>
                <a:cubicBezTo>
                  <a:pt x="6957" y="14496"/>
                  <a:pt x="7159" y="14448"/>
                  <a:pt x="7193" y="14436"/>
                </a:cubicBezTo>
              </a:path>
              <a:path w="2358" h="4243">
                <a:moveTo>
                  <a:pt x="9252" y="12502"/>
                </a:moveTo>
                <a:cubicBezTo>
                  <a:pt x="8839" y="12532"/>
                  <a:pt x="8447" y="12575"/>
                  <a:pt x="8037" y="12626"/>
                </a:cubicBezTo>
                <a:cubicBezTo>
                  <a:pt x="7804" y="12649"/>
                  <a:pt x="7735" y="12653"/>
                  <a:pt x="7590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7" name="Ink 9"/>
          <p:cNvSpPr/>
          <p:nvPr/>
        </p:nvSpPr>
        <p:spPr>
          <a:xfrm>
            <a:off x="4214880" y="3160800"/>
            <a:ext cx="196920" cy="125280"/>
          </a:xfrm>
          <a:custGeom>
            <a:avLst/>
            <a:gdLst/>
            <a:ahLst/>
            <a:rect l="l" t="t" r="r" b="b"/>
            <a:pathLst>
              <a:path w="547" h="348">
                <a:moveTo>
                  <a:pt x="12204" y="8880"/>
                </a:moveTo>
                <a:cubicBezTo>
                  <a:pt x="12096" y="8939"/>
                  <a:pt x="11991" y="9109"/>
                  <a:pt x="11881" y="9054"/>
                </a:cubicBezTo>
                <a:cubicBezTo>
                  <a:pt x="11802" y="9014"/>
                  <a:pt x="12013" y="8938"/>
                  <a:pt x="12080" y="8880"/>
                </a:cubicBezTo>
                <a:cubicBezTo>
                  <a:pt x="12177" y="8796"/>
                  <a:pt x="12181" y="8794"/>
                  <a:pt x="12055" y="8806"/>
                </a:cubicBezTo>
                <a:cubicBezTo>
                  <a:pt x="11999" y="8831"/>
                  <a:pt x="11858" y="8899"/>
                  <a:pt x="11857" y="8979"/>
                </a:cubicBezTo>
                <a:cubicBezTo>
                  <a:pt x="11885" y="9008"/>
                  <a:pt x="11893" y="9021"/>
                  <a:pt x="11881" y="9054"/>
                </a:cubicBezTo>
                <a:cubicBezTo>
                  <a:pt x="11939" y="9112"/>
                  <a:pt x="12000" y="9126"/>
                  <a:pt x="12080" y="9079"/>
                </a:cubicBezTo>
                <a:cubicBezTo>
                  <a:pt x="12121" y="9055"/>
                  <a:pt x="12289" y="8911"/>
                  <a:pt x="12254" y="8855"/>
                </a:cubicBezTo>
                <a:cubicBezTo>
                  <a:pt x="12208" y="8780"/>
                  <a:pt x="12018" y="8818"/>
                  <a:pt x="11956" y="8830"/>
                </a:cubicBezTo>
                <a:cubicBezTo>
                  <a:pt x="11834" y="8854"/>
                  <a:pt x="11779" y="8871"/>
                  <a:pt x="11757" y="8979"/>
                </a:cubicBezTo>
                <a:cubicBezTo>
                  <a:pt x="11807" y="9029"/>
                  <a:pt x="11856" y="9049"/>
                  <a:pt x="11931" y="9029"/>
                </a:cubicBezTo>
                <a:cubicBezTo>
                  <a:pt x="12019" y="9006"/>
                  <a:pt x="12092" y="8891"/>
                  <a:pt x="12154" y="8830"/>
                </a:cubicBezTo>
                <a:cubicBezTo>
                  <a:pt x="12162" y="8822"/>
                  <a:pt x="12171" y="8814"/>
                  <a:pt x="12179" y="8806"/>
                </a:cubicBezTo>
                <a:cubicBezTo>
                  <a:pt x="12107" y="8762"/>
                  <a:pt x="12037" y="8781"/>
                  <a:pt x="11956" y="8806"/>
                </a:cubicBezTo>
                <a:cubicBezTo>
                  <a:pt x="11867" y="8834"/>
                  <a:pt x="11737" y="8853"/>
                  <a:pt x="11757" y="8979"/>
                </a:cubicBezTo>
                <a:cubicBezTo>
                  <a:pt x="11768" y="9049"/>
                  <a:pt x="11871" y="9112"/>
                  <a:pt x="11931" y="9128"/>
                </a:cubicBezTo>
                <a:cubicBezTo>
                  <a:pt x="12072" y="9165"/>
                  <a:pt x="12114" y="9080"/>
                  <a:pt x="12179" y="8979"/>
                </a:cubicBezTo>
                <a:cubicBezTo>
                  <a:pt x="12204" y="8866"/>
                  <a:pt x="12171" y="8804"/>
                  <a:pt x="12030" y="8830"/>
                </a:cubicBezTo>
                <a:cubicBezTo>
                  <a:pt x="11942" y="8846"/>
                  <a:pt x="11733" y="8867"/>
                  <a:pt x="11757" y="9004"/>
                </a:cubicBezTo>
                <a:cubicBezTo>
                  <a:pt x="11779" y="9070"/>
                  <a:pt x="11778" y="9095"/>
                  <a:pt x="11832" y="9079"/>
                </a:cubicBezTo>
                <a:cubicBezTo>
                  <a:pt x="11956" y="9056"/>
                  <a:pt x="11960" y="9012"/>
                  <a:pt x="12030" y="8905"/>
                </a:cubicBezTo>
                <a:cubicBezTo>
                  <a:pt x="12109" y="8784"/>
                  <a:pt x="12023" y="8762"/>
                  <a:pt x="11906" y="8781"/>
                </a:cubicBezTo>
                <a:cubicBezTo>
                  <a:pt x="11829" y="8793"/>
                  <a:pt x="11729" y="8816"/>
                  <a:pt x="11708" y="8905"/>
                </a:cubicBezTo>
                <a:cubicBezTo>
                  <a:pt x="11697" y="8952"/>
                  <a:pt x="11727" y="9007"/>
                  <a:pt x="11733" y="9054"/>
                </a:cubicBezTo>
                <a:cubicBezTo>
                  <a:pt x="11766" y="9100"/>
                  <a:pt x="11824" y="9177"/>
                  <a:pt x="11881" y="9103"/>
                </a:cubicBezTo>
                <a:cubicBezTo>
                  <a:pt x="11932" y="9037"/>
                  <a:pt x="11883" y="9034"/>
                  <a:pt x="11832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Find the quadrant: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af9e6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af9e6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af9e6"/>
                </a:solidFill>
                <a:latin typeface="Arial"/>
              </a:rPr>
              <a:t>4</a:t>
            </a:r>
            <a:endParaRPr b="0" lang="en-US" sz="55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af9e6"/>
                </a:solidFill>
                <a:latin typeface="Arial"/>
              </a:rPr>
              <a:t>7</a:t>
            </a:r>
            <a:r>
              <a:rPr b="0" lang="en-US" sz="5500" spc="-1" strike="noStrike" baseline="30000">
                <a:solidFill>
                  <a:srgbClr val="faf9e6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af9e6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af9e6"/>
                </a:solidFill>
                <a:latin typeface="Arial"/>
              </a:rPr>
              <a:t>4</a:t>
            </a:r>
            <a:endParaRPr b="0" lang="en-US" sz="55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af9e6"/>
                </a:solidFill>
                <a:latin typeface="Arial"/>
              </a:rPr>
              <a:t>15</a:t>
            </a:r>
            <a:r>
              <a:rPr b="0" lang="en-US" sz="5500" spc="-1" strike="noStrike" baseline="30000">
                <a:solidFill>
                  <a:srgbClr val="faf9e6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af9e6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af9e6"/>
                </a:solidFill>
                <a:latin typeface="Arial"/>
              </a:rPr>
              <a:t>8</a:t>
            </a:r>
            <a:endParaRPr b="0" lang="en-US" sz="5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0" name="Ink 4"/>
          <p:cNvSpPr/>
          <p:nvPr/>
        </p:nvSpPr>
        <p:spPr>
          <a:xfrm>
            <a:off x="2544840" y="1820880"/>
            <a:ext cx="581040" cy="438120"/>
          </a:xfrm>
          <a:custGeom>
            <a:avLst/>
            <a:gdLst/>
            <a:ahLst/>
            <a:rect l="l" t="t" r="r" b="b"/>
            <a:pathLst>
              <a:path w="1614" h="1217">
                <a:moveTo>
                  <a:pt x="7813" y="5060"/>
                </a:moveTo>
                <a:cubicBezTo>
                  <a:pt x="7813" y="5261"/>
                  <a:pt x="7814" y="5462"/>
                  <a:pt x="7838" y="5655"/>
                </a:cubicBezTo>
                <a:cubicBezTo>
                  <a:pt x="7853" y="5772"/>
                  <a:pt x="7843" y="5897"/>
                  <a:pt x="7863" y="6003"/>
                </a:cubicBezTo>
                <a:cubicBezTo>
                  <a:pt x="7874" y="6060"/>
                  <a:pt x="7881" y="6118"/>
                  <a:pt x="7888" y="6176"/>
                </a:cubicBezTo>
              </a:path>
              <a:path w="1614" h="1217">
                <a:moveTo>
                  <a:pt x="7218" y="6276"/>
                </a:moveTo>
                <a:cubicBezTo>
                  <a:pt x="7410" y="6276"/>
                  <a:pt x="7597" y="6255"/>
                  <a:pt x="7789" y="6251"/>
                </a:cubicBezTo>
                <a:cubicBezTo>
                  <a:pt x="7965" y="6248"/>
                  <a:pt x="8132" y="6226"/>
                  <a:pt x="8310" y="6226"/>
                </a:cubicBezTo>
                <a:cubicBezTo>
                  <a:pt x="8421" y="6226"/>
                  <a:pt x="8553" y="6250"/>
                  <a:pt x="8657" y="6201"/>
                </a:cubicBezTo>
                <a:cubicBezTo>
                  <a:pt x="8703" y="6155"/>
                  <a:pt x="8687" y="6129"/>
                  <a:pt x="8582" y="6102"/>
                </a:cubicBezTo>
              </a:path>
              <a:path w="1614" h="1217">
                <a:moveTo>
                  <a:pt x="7069" y="5259"/>
                </a:moveTo>
                <a:cubicBezTo>
                  <a:pt x="7171" y="5156"/>
                  <a:pt x="7266" y="5138"/>
                  <a:pt x="7417" y="5110"/>
                </a:cubicBezTo>
                <a:cubicBezTo>
                  <a:pt x="7606" y="5074"/>
                  <a:pt x="7795" y="5085"/>
                  <a:pt x="7987" y="5085"/>
                </a:cubicBezTo>
                <a:cubicBezTo>
                  <a:pt x="8161" y="5085"/>
                  <a:pt x="8340" y="5068"/>
                  <a:pt x="8508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1" name="Ink 5"/>
          <p:cNvSpPr/>
          <p:nvPr/>
        </p:nvSpPr>
        <p:spPr>
          <a:xfrm>
            <a:off x="2554200" y="2820960"/>
            <a:ext cx="687600" cy="536760"/>
          </a:xfrm>
          <a:custGeom>
            <a:avLst/>
            <a:gdLst/>
            <a:ahLst/>
            <a:rect l="l" t="t" r="r" b="b"/>
            <a:pathLst>
              <a:path w="1911" h="1490">
                <a:moveTo>
                  <a:pt x="7441" y="7838"/>
                </a:moveTo>
                <a:cubicBezTo>
                  <a:pt x="7441" y="7933"/>
                  <a:pt x="7420" y="8015"/>
                  <a:pt x="7417" y="8111"/>
                </a:cubicBezTo>
                <a:cubicBezTo>
                  <a:pt x="7412" y="8304"/>
                  <a:pt x="7426" y="8492"/>
                  <a:pt x="7441" y="8682"/>
                </a:cubicBezTo>
                <a:cubicBezTo>
                  <a:pt x="7450" y="8793"/>
                  <a:pt x="7442" y="8920"/>
                  <a:pt x="7466" y="9029"/>
                </a:cubicBezTo>
                <a:cubicBezTo>
                  <a:pt x="7484" y="9111"/>
                  <a:pt x="7500" y="9157"/>
                  <a:pt x="7541" y="9227"/>
                </a:cubicBezTo>
              </a:path>
              <a:path w="1911" h="1490">
                <a:moveTo>
                  <a:pt x="7764" y="8136"/>
                </a:moveTo>
                <a:cubicBezTo>
                  <a:pt x="7817" y="8261"/>
                  <a:pt x="7793" y="8326"/>
                  <a:pt x="7813" y="8458"/>
                </a:cubicBezTo>
                <a:cubicBezTo>
                  <a:pt x="7832" y="8585"/>
                  <a:pt x="7902" y="8686"/>
                  <a:pt x="7938" y="8806"/>
                </a:cubicBezTo>
                <a:cubicBezTo>
                  <a:pt x="7964" y="8894"/>
                  <a:pt x="7960" y="8994"/>
                  <a:pt x="7987" y="9079"/>
                </a:cubicBezTo>
                <a:cubicBezTo>
                  <a:pt x="8001" y="9124"/>
                  <a:pt x="8031" y="9147"/>
                  <a:pt x="8062" y="9178"/>
                </a:cubicBezTo>
                <a:cubicBezTo>
                  <a:pt x="8129" y="9129"/>
                  <a:pt x="8169" y="9068"/>
                  <a:pt x="8186" y="8979"/>
                </a:cubicBezTo>
                <a:cubicBezTo>
                  <a:pt x="8204" y="8886"/>
                  <a:pt x="8234" y="8799"/>
                  <a:pt x="8260" y="8706"/>
                </a:cubicBezTo>
                <a:cubicBezTo>
                  <a:pt x="8288" y="8609"/>
                  <a:pt x="8322" y="8483"/>
                  <a:pt x="8334" y="8384"/>
                </a:cubicBezTo>
                <a:cubicBezTo>
                  <a:pt x="8345" y="8295"/>
                  <a:pt x="8337" y="8220"/>
                  <a:pt x="8359" y="8136"/>
                </a:cubicBezTo>
                <a:cubicBezTo>
                  <a:pt x="8381" y="8051"/>
                  <a:pt x="8402" y="8028"/>
                  <a:pt x="8458" y="7987"/>
                </a:cubicBezTo>
              </a:path>
              <a:path w="1911" h="1490">
                <a:moveTo>
                  <a:pt x="7218" y="9327"/>
                </a:moveTo>
                <a:cubicBezTo>
                  <a:pt x="7362" y="9298"/>
                  <a:pt x="7495" y="9273"/>
                  <a:pt x="7640" y="9252"/>
                </a:cubicBezTo>
                <a:cubicBezTo>
                  <a:pt x="7860" y="9220"/>
                  <a:pt x="8088" y="9219"/>
                  <a:pt x="8310" y="9203"/>
                </a:cubicBezTo>
                <a:cubicBezTo>
                  <a:pt x="8452" y="9193"/>
                  <a:pt x="8591" y="9192"/>
                  <a:pt x="8731" y="9178"/>
                </a:cubicBezTo>
                <a:cubicBezTo>
                  <a:pt x="8770" y="9174"/>
                  <a:pt x="8993" y="9201"/>
                  <a:pt x="9004" y="9128"/>
                </a:cubicBezTo>
                <a:cubicBezTo>
                  <a:pt x="8996" y="9103"/>
                  <a:pt x="8987" y="9079"/>
                  <a:pt x="8979" y="9054"/>
                </a:cubicBezTo>
              </a:path>
              <a:path w="1911" h="1490">
                <a:moveTo>
                  <a:pt x="7094" y="8012"/>
                </a:moveTo>
                <a:cubicBezTo>
                  <a:pt x="7170" y="7951"/>
                  <a:pt x="7241" y="7927"/>
                  <a:pt x="7342" y="7913"/>
                </a:cubicBezTo>
                <a:cubicBezTo>
                  <a:pt x="7568" y="7883"/>
                  <a:pt x="7788" y="7909"/>
                  <a:pt x="8012" y="7888"/>
                </a:cubicBezTo>
                <a:cubicBezTo>
                  <a:pt x="8188" y="7871"/>
                  <a:pt x="8353" y="7888"/>
                  <a:pt x="8533" y="7888"/>
                </a:cubicBezTo>
                <a:cubicBezTo>
                  <a:pt x="8595" y="7888"/>
                  <a:pt x="8634" y="7905"/>
                  <a:pt x="8657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2" name="Ink 6"/>
          <p:cNvSpPr/>
          <p:nvPr/>
        </p:nvSpPr>
        <p:spPr>
          <a:xfrm>
            <a:off x="2652840" y="3867120"/>
            <a:ext cx="615960" cy="696960"/>
          </a:xfrm>
          <a:custGeom>
            <a:avLst/>
            <a:gdLst/>
            <a:ahLst/>
            <a:rect l="l" t="t" r="r" b="b"/>
            <a:pathLst>
              <a:path w="1713" h="1936">
                <a:moveTo>
                  <a:pt x="7615" y="11063"/>
                </a:moveTo>
                <a:cubicBezTo>
                  <a:pt x="7588" y="11197"/>
                  <a:pt x="7590" y="11322"/>
                  <a:pt x="7590" y="11460"/>
                </a:cubicBezTo>
                <a:cubicBezTo>
                  <a:pt x="7590" y="11819"/>
                  <a:pt x="7428" y="12832"/>
                  <a:pt x="7615" y="12526"/>
                </a:cubicBezTo>
                <a:cubicBezTo>
                  <a:pt x="7615" y="12510"/>
                  <a:pt x="7615" y="12493"/>
                  <a:pt x="7615" y="12477"/>
                </a:cubicBezTo>
              </a:path>
              <a:path w="1713" h="1936">
                <a:moveTo>
                  <a:pt x="8012" y="10939"/>
                </a:moveTo>
                <a:cubicBezTo>
                  <a:pt x="8012" y="11021"/>
                  <a:pt x="8034" y="11081"/>
                  <a:pt x="8037" y="11162"/>
                </a:cubicBezTo>
                <a:cubicBezTo>
                  <a:pt x="8042" y="11305"/>
                  <a:pt x="8052" y="11443"/>
                  <a:pt x="8062" y="11584"/>
                </a:cubicBezTo>
                <a:cubicBezTo>
                  <a:pt x="8075" y="11774"/>
                  <a:pt x="8105" y="11962"/>
                  <a:pt x="8111" y="12154"/>
                </a:cubicBezTo>
                <a:cubicBezTo>
                  <a:pt x="8115" y="12265"/>
                  <a:pt x="8149" y="12369"/>
                  <a:pt x="8161" y="12477"/>
                </a:cubicBezTo>
              </a:path>
              <a:path w="1713" h="1936">
                <a:moveTo>
                  <a:pt x="8136" y="12452"/>
                </a:moveTo>
                <a:cubicBezTo>
                  <a:pt x="8216" y="12372"/>
                  <a:pt x="8294" y="12297"/>
                  <a:pt x="8359" y="12204"/>
                </a:cubicBezTo>
                <a:cubicBezTo>
                  <a:pt x="8464" y="12054"/>
                  <a:pt x="8549" y="11896"/>
                  <a:pt x="8632" y="11733"/>
                </a:cubicBezTo>
                <a:cubicBezTo>
                  <a:pt x="8692" y="11615"/>
                  <a:pt x="8721" y="11488"/>
                  <a:pt x="8756" y="11361"/>
                </a:cubicBezTo>
                <a:cubicBezTo>
                  <a:pt x="8787" y="11249"/>
                  <a:pt x="8840" y="11191"/>
                  <a:pt x="8880" y="11088"/>
                </a:cubicBezTo>
                <a:cubicBezTo>
                  <a:pt x="8901" y="11032"/>
                  <a:pt x="8911" y="10987"/>
                  <a:pt x="8930" y="10939"/>
                </a:cubicBezTo>
              </a:path>
              <a:path w="1713" h="1936">
                <a:moveTo>
                  <a:pt x="7367" y="12675"/>
                </a:moveTo>
                <a:cubicBezTo>
                  <a:pt x="7506" y="12675"/>
                  <a:pt x="7628" y="12661"/>
                  <a:pt x="7764" y="12626"/>
                </a:cubicBezTo>
                <a:cubicBezTo>
                  <a:pt x="7959" y="12576"/>
                  <a:pt x="8158" y="12524"/>
                  <a:pt x="8359" y="12502"/>
                </a:cubicBezTo>
                <a:cubicBezTo>
                  <a:pt x="8595" y="12477"/>
                  <a:pt x="8735" y="12491"/>
                  <a:pt x="8930" y="12402"/>
                </a:cubicBezTo>
                <a:cubicBezTo>
                  <a:pt x="9039" y="12352"/>
                  <a:pt x="9025" y="12386"/>
                  <a:pt x="9079" y="12278"/>
                </a:cubicBezTo>
              </a:path>
              <a:path w="1713" h="1936">
                <a:moveTo>
                  <a:pt x="7392" y="10939"/>
                </a:moveTo>
                <a:cubicBezTo>
                  <a:pt x="7598" y="10812"/>
                  <a:pt x="7789" y="10761"/>
                  <a:pt x="8037" y="10740"/>
                </a:cubicBezTo>
                <a:cubicBezTo>
                  <a:pt x="8284" y="10719"/>
                  <a:pt x="8538" y="10751"/>
                  <a:pt x="8781" y="10765"/>
                </a:cubicBezTo>
                <a:cubicBezTo>
                  <a:pt x="8879" y="10771"/>
                  <a:pt x="8980" y="10765"/>
                  <a:pt x="9079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3" name="Ink 7"/>
          <p:cNvSpPr/>
          <p:nvPr/>
        </p:nvSpPr>
        <p:spPr>
          <a:xfrm>
            <a:off x="812880" y="4633920"/>
            <a:ext cx="2544840" cy="947880"/>
          </a:xfrm>
          <a:custGeom>
            <a:avLst/>
            <a:gdLst/>
            <a:ahLst/>
            <a:rect l="l" t="t" r="r" b="b"/>
            <a:pathLst>
              <a:path w="7071" h="2630">
                <a:moveTo>
                  <a:pt x="2257" y="12874"/>
                </a:moveTo>
                <a:cubicBezTo>
                  <a:pt x="2290" y="13005"/>
                  <a:pt x="2307" y="13111"/>
                  <a:pt x="2307" y="13246"/>
                </a:cubicBezTo>
                <a:cubicBezTo>
                  <a:pt x="2307" y="13382"/>
                  <a:pt x="2286" y="13508"/>
                  <a:pt x="2282" y="13643"/>
                </a:cubicBezTo>
                <a:cubicBezTo>
                  <a:pt x="2279" y="13746"/>
                  <a:pt x="2257" y="13834"/>
                  <a:pt x="2257" y="13940"/>
                </a:cubicBezTo>
              </a:path>
              <a:path w="7071" h="2630">
                <a:moveTo>
                  <a:pt x="2629" y="13072"/>
                </a:moveTo>
                <a:cubicBezTo>
                  <a:pt x="2765" y="13049"/>
                  <a:pt x="2825" y="13054"/>
                  <a:pt x="2952" y="13072"/>
                </a:cubicBezTo>
                <a:cubicBezTo>
                  <a:pt x="2993" y="13072"/>
                  <a:pt x="3001" y="13072"/>
                  <a:pt x="3026" y="13072"/>
                </a:cubicBezTo>
              </a:path>
              <a:path w="7071" h="2630">
                <a:moveTo>
                  <a:pt x="2580" y="13072"/>
                </a:moveTo>
                <a:cubicBezTo>
                  <a:pt x="2595" y="13138"/>
                  <a:pt x="2600" y="13258"/>
                  <a:pt x="2679" y="13295"/>
                </a:cubicBezTo>
                <a:cubicBezTo>
                  <a:pt x="2749" y="13328"/>
                  <a:pt x="2850" y="13383"/>
                  <a:pt x="2902" y="13444"/>
                </a:cubicBezTo>
                <a:cubicBezTo>
                  <a:pt x="2951" y="13501"/>
                  <a:pt x="2974" y="13595"/>
                  <a:pt x="2977" y="13667"/>
                </a:cubicBezTo>
                <a:cubicBezTo>
                  <a:pt x="2980" y="13741"/>
                  <a:pt x="2990" y="13838"/>
                  <a:pt x="2927" y="13891"/>
                </a:cubicBezTo>
                <a:cubicBezTo>
                  <a:pt x="2881" y="13929"/>
                  <a:pt x="2814" y="13957"/>
                  <a:pt x="2753" y="13940"/>
                </a:cubicBezTo>
                <a:cubicBezTo>
                  <a:pt x="2674" y="13918"/>
                  <a:pt x="2653" y="13877"/>
                  <a:pt x="2604" y="13816"/>
                </a:cubicBezTo>
              </a:path>
              <a:path w="7071" h="2630">
                <a:moveTo>
                  <a:pt x="3324" y="13171"/>
                </a:moveTo>
                <a:cubicBezTo>
                  <a:pt x="3405" y="13171"/>
                  <a:pt x="3634" y="13215"/>
                  <a:pt x="3721" y="13196"/>
                </a:cubicBezTo>
                <a:cubicBezTo>
                  <a:pt x="3737" y="13188"/>
                  <a:pt x="3754" y="13179"/>
                  <a:pt x="3770" y="13171"/>
                </a:cubicBezTo>
              </a:path>
              <a:path w="7071" h="2630">
                <a:moveTo>
                  <a:pt x="3448" y="13271"/>
                </a:moveTo>
                <a:cubicBezTo>
                  <a:pt x="3431" y="13403"/>
                  <a:pt x="3404" y="13535"/>
                  <a:pt x="3398" y="13667"/>
                </a:cubicBezTo>
                <a:cubicBezTo>
                  <a:pt x="3396" y="13716"/>
                  <a:pt x="3398" y="13767"/>
                  <a:pt x="3398" y="13816"/>
                </a:cubicBezTo>
              </a:path>
              <a:path w="7071" h="2630">
                <a:moveTo>
                  <a:pt x="3621" y="13171"/>
                </a:moveTo>
                <a:cubicBezTo>
                  <a:pt x="3599" y="13315"/>
                  <a:pt x="3597" y="13447"/>
                  <a:pt x="3597" y="13593"/>
                </a:cubicBezTo>
                <a:cubicBezTo>
                  <a:pt x="3597" y="13725"/>
                  <a:pt x="3597" y="13858"/>
                  <a:pt x="3597" y="13990"/>
                </a:cubicBezTo>
              </a:path>
              <a:path w="7071" h="2630">
                <a:moveTo>
                  <a:pt x="2580" y="14238"/>
                </a:moveTo>
                <a:cubicBezTo>
                  <a:pt x="2795" y="14266"/>
                  <a:pt x="3009" y="14267"/>
                  <a:pt x="3225" y="14238"/>
                </a:cubicBezTo>
                <a:cubicBezTo>
                  <a:pt x="3332" y="14224"/>
                  <a:pt x="3448" y="14178"/>
                  <a:pt x="3547" y="14139"/>
                </a:cubicBezTo>
              </a:path>
              <a:path w="7071" h="2630">
                <a:moveTo>
                  <a:pt x="3547" y="14412"/>
                </a:moveTo>
                <a:cubicBezTo>
                  <a:pt x="3443" y="14402"/>
                  <a:pt x="3401" y="14400"/>
                  <a:pt x="3299" y="14412"/>
                </a:cubicBezTo>
                <a:cubicBezTo>
                  <a:pt x="3201" y="14423"/>
                  <a:pt x="3143" y="14446"/>
                  <a:pt x="3125" y="14560"/>
                </a:cubicBezTo>
                <a:cubicBezTo>
                  <a:pt x="3108" y="14666"/>
                  <a:pt x="3183" y="14790"/>
                  <a:pt x="3225" y="14883"/>
                </a:cubicBezTo>
                <a:cubicBezTo>
                  <a:pt x="3272" y="14986"/>
                  <a:pt x="3358" y="15112"/>
                  <a:pt x="3349" y="15230"/>
                </a:cubicBezTo>
                <a:cubicBezTo>
                  <a:pt x="3344" y="15294"/>
                  <a:pt x="3313" y="15315"/>
                  <a:pt x="3274" y="15354"/>
                </a:cubicBezTo>
                <a:cubicBezTo>
                  <a:pt x="3201" y="15310"/>
                  <a:pt x="3147" y="15254"/>
                  <a:pt x="3125" y="15156"/>
                </a:cubicBezTo>
                <a:cubicBezTo>
                  <a:pt x="3112" y="15100"/>
                  <a:pt x="3174" y="14980"/>
                  <a:pt x="3200" y="14932"/>
                </a:cubicBezTo>
                <a:cubicBezTo>
                  <a:pt x="3253" y="14833"/>
                  <a:pt x="3368" y="14789"/>
                  <a:pt x="3448" y="14709"/>
                </a:cubicBezTo>
                <a:cubicBezTo>
                  <a:pt x="3525" y="14632"/>
                  <a:pt x="3534" y="14616"/>
                  <a:pt x="3572" y="14511"/>
                </a:cubicBezTo>
              </a:path>
              <a:path w="7071" h="2630">
                <a:moveTo>
                  <a:pt x="4093" y="14312"/>
                </a:moveTo>
                <a:cubicBezTo>
                  <a:pt x="4109" y="14320"/>
                  <a:pt x="4126" y="14329"/>
                  <a:pt x="4142" y="14337"/>
                </a:cubicBezTo>
              </a:path>
              <a:path w="7071" h="2630">
                <a:moveTo>
                  <a:pt x="4663" y="13419"/>
                </a:moveTo>
                <a:cubicBezTo>
                  <a:pt x="4683" y="13497"/>
                  <a:pt x="4673" y="13600"/>
                  <a:pt x="4663" y="13692"/>
                </a:cubicBezTo>
                <a:cubicBezTo>
                  <a:pt x="4649" y="13822"/>
                  <a:pt x="4638" y="13935"/>
                  <a:pt x="4638" y="14064"/>
                </a:cubicBezTo>
                <a:cubicBezTo>
                  <a:pt x="4638" y="14124"/>
                  <a:pt x="4641" y="14140"/>
                  <a:pt x="4688" y="14163"/>
                </a:cubicBezTo>
              </a:path>
              <a:path w="7071" h="2630">
                <a:moveTo>
                  <a:pt x="5135" y="13519"/>
                </a:moveTo>
                <a:cubicBezTo>
                  <a:pt x="5080" y="13409"/>
                  <a:pt x="5086" y="13328"/>
                  <a:pt x="5035" y="13395"/>
                </a:cubicBezTo>
                <a:cubicBezTo>
                  <a:pt x="4996" y="13502"/>
                  <a:pt x="5032" y="13602"/>
                  <a:pt x="5035" y="13717"/>
                </a:cubicBezTo>
                <a:cubicBezTo>
                  <a:pt x="5038" y="13829"/>
                  <a:pt x="5052" y="13960"/>
                  <a:pt x="5011" y="14064"/>
                </a:cubicBezTo>
                <a:cubicBezTo>
                  <a:pt x="4993" y="14110"/>
                  <a:pt x="4970" y="14130"/>
                  <a:pt x="4936" y="14163"/>
                </a:cubicBezTo>
                <a:cubicBezTo>
                  <a:pt x="4912" y="14093"/>
                  <a:pt x="4886" y="14009"/>
                  <a:pt x="4936" y="13940"/>
                </a:cubicBezTo>
                <a:cubicBezTo>
                  <a:pt x="4988" y="13869"/>
                  <a:pt x="5070" y="13823"/>
                  <a:pt x="5135" y="13767"/>
                </a:cubicBezTo>
              </a:path>
              <a:path w="7071" h="2630">
                <a:moveTo>
                  <a:pt x="5333" y="13543"/>
                </a:moveTo>
                <a:cubicBezTo>
                  <a:pt x="5280" y="13581"/>
                  <a:pt x="5175" y="13672"/>
                  <a:pt x="5159" y="13742"/>
                </a:cubicBezTo>
                <a:cubicBezTo>
                  <a:pt x="5126" y="13888"/>
                  <a:pt x="5167" y="13946"/>
                  <a:pt x="5259" y="14039"/>
                </a:cubicBezTo>
                <a:cubicBezTo>
                  <a:pt x="5319" y="14099"/>
                  <a:pt x="5380" y="14103"/>
                  <a:pt x="5457" y="14064"/>
                </a:cubicBezTo>
                <a:cubicBezTo>
                  <a:pt x="5536" y="14024"/>
                  <a:pt x="5578" y="13917"/>
                  <a:pt x="5606" y="13841"/>
                </a:cubicBezTo>
                <a:cubicBezTo>
                  <a:pt x="5648" y="13728"/>
                  <a:pt x="5592" y="13662"/>
                  <a:pt x="5531" y="13568"/>
                </a:cubicBezTo>
                <a:cubicBezTo>
                  <a:pt x="5465" y="13466"/>
                  <a:pt x="5421" y="13478"/>
                  <a:pt x="5308" y="13469"/>
                </a:cubicBezTo>
              </a:path>
              <a:path w="7071" h="2630">
                <a:moveTo>
                  <a:pt x="4539" y="14312"/>
                </a:moveTo>
                <a:cubicBezTo>
                  <a:pt x="4673" y="14302"/>
                  <a:pt x="4804" y="14288"/>
                  <a:pt x="4936" y="14263"/>
                </a:cubicBezTo>
                <a:cubicBezTo>
                  <a:pt x="5127" y="14226"/>
                  <a:pt x="5313" y="14217"/>
                  <a:pt x="5507" y="14213"/>
                </a:cubicBezTo>
                <a:cubicBezTo>
                  <a:pt x="5614" y="14211"/>
                  <a:pt x="5722" y="14213"/>
                  <a:pt x="5829" y="14213"/>
                </a:cubicBezTo>
              </a:path>
              <a:path w="7071" h="2630">
                <a:moveTo>
                  <a:pt x="4887" y="14635"/>
                </a:moveTo>
                <a:cubicBezTo>
                  <a:pt x="5056" y="14650"/>
                  <a:pt x="5215" y="14660"/>
                  <a:pt x="5383" y="14660"/>
                </a:cubicBezTo>
                <a:cubicBezTo>
                  <a:pt x="5399" y="14660"/>
                  <a:pt x="5416" y="14660"/>
                  <a:pt x="5432" y="14660"/>
                </a:cubicBezTo>
              </a:path>
              <a:path w="7071" h="2630">
                <a:moveTo>
                  <a:pt x="5184" y="14635"/>
                </a:moveTo>
                <a:cubicBezTo>
                  <a:pt x="5134" y="14836"/>
                  <a:pt x="5091" y="14999"/>
                  <a:pt x="5085" y="15205"/>
                </a:cubicBezTo>
                <a:cubicBezTo>
                  <a:pt x="5085" y="15247"/>
                  <a:pt x="5085" y="15255"/>
                  <a:pt x="5085" y="15280"/>
                </a:cubicBezTo>
              </a:path>
              <a:path w="7071" h="2630">
                <a:moveTo>
                  <a:pt x="5358" y="14808"/>
                </a:moveTo>
                <a:cubicBezTo>
                  <a:pt x="5362" y="14991"/>
                  <a:pt x="5305" y="15335"/>
                  <a:pt x="5432" y="15503"/>
                </a:cubicBezTo>
                <a:cubicBezTo>
                  <a:pt x="5440" y="15503"/>
                  <a:pt x="5449" y="15503"/>
                  <a:pt x="5457" y="15503"/>
                </a:cubicBezTo>
              </a:path>
              <a:path w="7071" h="2630">
                <a:moveTo>
                  <a:pt x="6176" y="14263"/>
                </a:moveTo>
                <a:cubicBezTo>
                  <a:pt x="6290" y="14275"/>
                  <a:pt x="6370" y="14288"/>
                  <a:pt x="6474" y="14288"/>
                </a:cubicBezTo>
              </a:path>
              <a:path w="7071" h="2630">
                <a:moveTo>
                  <a:pt x="6152" y="14412"/>
                </a:moveTo>
                <a:cubicBezTo>
                  <a:pt x="6399" y="14617"/>
                  <a:pt x="6294" y="14610"/>
                  <a:pt x="6499" y="14610"/>
                </a:cubicBezTo>
              </a:path>
              <a:path w="7071" h="2630">
                <a:moveTo>
                  <a:pt x="6871" y="13915"/>
                </a:moveTo>
                <a:cubicBezTo>
                  <a:pt x="6864" y="14084"/>
                  <a:pt x="6836" y="14244"/>
                  <a:pt x="6821" y="14412"/>
                </a:cubicBezTo>
                <a:cubicBezTo>
                  <a:pt x="6812" y="14517"/>
                  <a:pt x="6821" y="14628"/>
                  <a:pt x="6821" y="14734"/>
                </a:cubicBezTo>
              </a:path>
              <a:path w="7071" h="2630">
                <a:moveTo>
                  <a:pt x="7218" y="13915"/>
                </a:moveTo>
                <a:cubicBezTo>
                  <a:pt x="7322" y="13901"/>
                  <a:pt x="7624" y="13781"/>
                  <a:pt x="7590" y="14015"/>
                </a:cubicBezTo>
                <a:cubicBezTo>
                  <a:pt x="7577" y="14103"/>
                  <a:pt x="7500" y="14094"/>
                  <a:pt x="7441" y="14114"/>
                </a:cubicBezTo>
                <a:cubicBezTo>
                  <a:pt x="7382" y="14134"/>
                  <a:pt x="7365" y="14182"/>
                  <a:pt x="7317" y="14213"/>
                </a:cubicBezTo>
                <a:cubicBezTo>
                  <a:pt x="7301" y="14221"/>
                  <a:pt x="7284" y="14230"/>
                  <a:pt x="7268" y="14238"/>
                </a:cubicBezTo>
                <a:cubicBezTo>
                  <a:pt x="7322" y="14292"/>
                  <a:pt x="7373" y="14254"/>
                  <a:pt x="7417" y="14288"/>
                </a:cubicBezTo>
                <a:cubicBezTo>
                  <a:pt x="7441" y="14307"/>
                  <a:pt x="7463" y="14438"/>
                  <a:pt x="7466" y="14461"/>
                </a:cubicBezTo>
                <a:cubicBezTo>
                  <a:pt x="7478" y="14542"/>
                  <a:pt x="7470" y="14581"/>
                  <a:pt x="7417" y="14635"/>
                </a:cubicBezTo>
                <a:cubicBezTo>
                  <a:pt x="7373" y="14680"/>
                  <a:pt x="7307" y="14701"/>
                  <a:pt x="7243" y="14684"/>
                </a:cubicBezTo>
                <a:cubicBezTo>
                  <a:pt x="7187" y="14669"/>
                  <a:pt x="7114" y="14620"/>
                  <a:pt x="7069" y="14585"/>
                </a:cubicBezTo>
                <a:cubicBezTo>
                  <a:pt x="7033" y="14557"/>
                  <a:pt x="7045" y="14526"/>
                  <a:pt x="7045" y="14486"/>
                </a:cubicBezTo>
              </a:path>
              <a:path w="7071" h="2630">
                <a:moveTo>
                  <a:pt x="6598" y="13866"/>
                </a:moveTo>
                <a:cubicBezTo>
                  <a:pt x="6679" y="13907"/>
                  <a:pt x="6721" y="13843"/>
                  <a:pt x="6796" y="13866"/>
                </a:cubicBezTo>
                <a:cubicBezTo>
                  <a:pt x="6815" y="13872"/>
                  <a:pt x="6948" y="13927"/>
                  <a:pt x="6945" y="13965"/>
                </a:cubicBezTo>
                <a:cubicBezTo>
                  <a:pt x="6939" y="14059"/>
                  <a:pt x="6832" y="14049"/>
                  <a:pt x="6772" y="14064"/>
                </a:cubicBezTo>
                <a:cubicBezTo>
                  <a:pt x="6711" y="14084"/>
                  <a:pt x="6696" y="14082"/>
                  <a:pt x="6672" y="14114"/>
                </a:cubicBezTo>
                <a:cubicBezTo>
                  <a:pt x="6682" y="14183"/>
                  <a:pt x="6717" y="14220"/>
                  <a:pt x="6796" y="14238"/>
                </a:cubicBezTo>
                <a:cubicBezTo>
                  <a:pt x="6857" y="14252"/>
                  <a:pt x="6893" y="14266"/>
                  <a:pt x="6945" y="14312"/>
                </a:cubicBezTo>
                <a:cubicBezTo>
                  <a:pt x="7022" y="14381"/>
                  <a:pt x="6982" y="14425"/>
                  <a:pt x="6970" y="14511"/>
                </a:cubicBezTo>
                <a:cubicBezTo>
                  <a:pt x="6958" y="14592"/>
                  <a:pt x="6909" y="14588"/>
                  <a:pt x="6846" y="14635"/>
                </a:cubicBezTo>
                <a:cubicBezTo>
                  <a:pt x="6795" y="14673"/>
                  <a:pt x="6730" y="14671"/>
                  <a:pt x="6672" y="14635"/>
                </a:cubicBezTo>
                <a:cubicBezTo>
                  <a:pt x="6634" y="14611"/>
                  <a:pt x="6648" y="14574"/>
                  <a:pt x="6648" y="14536"/>
                </a:cubicBezTo>
              </a:path>
              <a:path w="7071" h="2630">
                <a:moveTo>
                  <a:pt x="7789" y="14064"/>
                </a:moveTo>
                <a:cubicBezTo>
                  <a:pt x="7823" y="14021"/>
                  <a:pt x="7849" y="13979"/>
                  <a:pt x="7888" y="13940"/>
                </a:cubicBezTo>
                <a:cubicBezTo>
                  <a:pt x="7943" y="13885"/>
                  <a:pt x="7981" y="13935"/>
                  <a:pt x="8037" y="13965"/>
                </a:cubicBezTo>
                <a:cubicBezTo>
                  <a:pt x="8105" y="14002"/>
                  <a:pt x="8176" y="14029"/>
                  <a:pt x="8235" y="14064"/>
                </a:cubicBezTo>
                <a:cubicBezTo>
                  <a:pt x="8151" y="14113"/>
                  <a:pt x="8164" y="14129"/>
                  <a:pt x="8136" y="14213"/>
                </a:cubicBezTo>
                <a:cubicBezTo>
                  <a:pt x="8100" y="14321"/>
                  <a:pt x="8040" y="14425"/>
                  <a:pt x="8012" y="14536"/>
                </a:cubicBezTo>
                <a:cubicBezTo>
                  <a:pt x="7986" y="14639"/>
                  <a:pt x="7967" y="14694"/>
                  <a:pt x="7987" y="14784"/>
                </a:cubicBezTo>
              </a:path>
              <a:path w="7071" h="2630">
                <a:moveTo>
                  <a:pt x="8310" y="14808"/>
                </a:moveTo>
                <a:cubicBezTo>
                  <a:pt x="8339" y="14779"/>
                  <a:pt x="8350" y="14764"/>
                  <a:pt x="8359" y="14734"/>
                </a:cubicBezTo>
              </a:path>
              <a:path w="7071" h="2630">
                <a:moveTo>
                  <a:pt x="8781" y="14139"/>
                </a:moveTo>
                <a:cubicBezTo>
                  <a:pt x="8880" y="14116"/>
                  <a:pt x="9028" y="14117"/>
                  <a:pt x="9128" y="14089"/>
                </a:cubicBezTo>
                <a:cubicBezTo>
                  <a:pt x="9178" y="14064"/>
                  <a:pt x="9194" y="14056"/>
                  <a:pt x="9227" y="14039"/>
                </a:cubicBezTo>
              </a:path>
              <a:path w="7071" h="2630">
                <a:moveTo>
                  <a:pt x="8979" y="14015"/>
                </a:moveTo>
                <a:cubicBezTo>
                  <a:pt x="8920" y="14099"/>
                  <a:pt x="8917" y="14152"/>
                  <a:pt x="8880" y="14238"/>
                </a:cubicBezTo>
                <a:cubicBezTo>
                  <a:pt x="8852" y="14266"/>
                  <a:pt x="8843" y="14279"/>
                  <a:pt x="8855" y="14312"/>
                </a:cubicBezTo>
                <a:cubicBezTo>
                  <a:pt x="8918" y="14375"/>
                  <a:pt x="8958" y="14362"/>
                  <a:pt x="9054" y="14362"/>
                </a:cubicBezTo>
                <a:cubicBezTo>
                  <a:pt x="9126" y="14362"/>
                  <a:pt x="9221" y="14352"/>
                  <a:pt x="9277" y="14412"/>
                </a:cubicBezTo>
                <a:cubicBezTo>
                  <a:pt x="9338" y="14477"/>
                  <a:pt x="9327" y="14550"/>
                  <a:pt x="9327" y="14635"/>
                </a:cubicBezTo>
                <a:cubicBezTo>
                  <a:pt x="9327" y="14740"/>
                  <a:pt x="9264" y="14801"/>
                  <a:pt x="9178" y="14833"/>
                </a:cubicBezTo>
                <a:cubicBezTo>
                  <a:pt x="9101" y="14862"/>
                  <a:pt x="9033" y="14841"/>
                  <a:pt x="8954" y="14808"/>
                </a:cubicBezTo>
                <a:cubicBezTo>
                  <a:pt x="8881" y="14778"/>
                  <a:pt x="8833" y="14702"/>
                  <a:pt x="8756" y="146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1:52:53Z</dcterms:created>
  <dc:creator>jnewman</dc:creator>
  <dc:description/>
  <dc:language>en-US</dc:language>
  <cp:lastModifiedBy>abeason</cp:lastModifiedBy>
  <dcterms:modified xsi:type="dcterms:W3CDTF">2009-09-17T14:39:34Z</dcterms:modified>
  <cp:revision>11</cp:revision>
  <dc:subject/>
  <dc:title>Lesson 4.1 part two</dc:title>
</cp:coreProperties>
</file>